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4.wmf" ContentType="image/x-wmf"/>
  <Override PartName="/ppt/media/image23.wmf" ContentType="image/x-wmf"/>
  <Override PartName="/ppt/media/image22.wmf" ContentType="image/x-wmf"/>
  <Override PartName="/ppt/media/image28.wmf" ContentType="image/x-wmf"/>
  <Override PartName="/ppt/media/image30.wmf" ContentType="image/x-wmf"/>
  <Override PartName="/ppt/media/image5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31.gif" ContentType="image/gif"/>
  <Override PartName="/ppt/media/image6.wmf" ContentType="image/x-wmf"/>
  <Override PartName="/ppt/media/image11.wmf" ContentType="image/x-wmf"/>
  <Override PartName="/ppt/media/image32.gif" ContentType="image/gi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98200" y="930924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E9E134-0301-4F91-98D1-E9241A8E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44360" y="856800"/>
            <a:ext cx="4552920" cy="341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Univers 45 Light"/>
              </a:rPr>
              <a:t>Click to move the slide</a:t>
            </a:r>
            <a:endParaRPr b="1" lang="en-US" sz="3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mple configuration are only effective against simple infrastructure attac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 firewall only allows/disallows http – it doesn’t inspect traffic for application or CGI or JavaScript or Cookie err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One in every three intrusions occur where a firewall is in plac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-- Computer Security Institu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90720" y="4724280"/>
            <a:ext cx="4873680" cy="41198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cker migh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te a successful attack but the IDS de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an alert  security staff and provide a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ovides valuable “reaction time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is invalu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DS detected the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curity staff can react, invoke incident response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ontain the attack and clean the effected server and produce all necessary Public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DS detects can even block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u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initiating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046160" y="857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4160" y="4641480"/>
            <a:ext cx="4873680" cy="41194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9600" bIns="396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legat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308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9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985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308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9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308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7960" y="149832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985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308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7960" y="3693960"/>
            <a:ext cx="238500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400" y="369396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400" y="1498320"/>
            <a:ext cx="36147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8560" y="3693960"/>
            <a:ext cx="740736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80880" y="5867280"/>
          <a:ext cx="114300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867280"/>
                    <a:ext cx="1143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2" marL="1333440" indent="-28584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3" marL="1905120" indent="-28116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4" marL="2243160" indent="-147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5" marL="2243160" indent="-147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6" marL="2243160" indent="-147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91240" y="228240"/>
            <a:ext cx="1981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000000"/>
                </a:solidFill>
                <a:latin typeface="Univers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E51-EB58-413E-A0E4-60B5760F92A4}" type="datetime">
              <a:rPr b="1" lang="en-US" sz="700" spc="-1" strike="noStrike">
                <a:solidFill>
                  <a:srgbClr val="000000"/>
                </a:solidFill>
                <a:latin typeface="Univers 45 Light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04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5867280"/>
          <a:ext cx="114300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867280"/>
                    <a:ext cx="1143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Univers 45 Light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66756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000000"/>
                </a:solidFill>
                <a:latin typeface="Univers 45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F1A-1764-4841-871F-581FC8612738}" type="datetime">
              <a:rPr b="1" lang="en-US" sz="700" spc="-1" strike="noStrike">
                <a:solidFill>
                  <a:srgbClr val="000000"/>
                </a:solidFill>
                <a:latin typeface="Univers 45 Light"/>
              </a:rPr>
              <a:t>07/29/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130800"/>
            <a:ext cx="28958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Univers 55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Univers 55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Univers 45 Light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  <a:p>
            <a:pPr lvl="1" marL="457200" indent="0" algn="ctr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Univers 55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Univers 55"/>
            </a:endParaRPr>
          </a:p>
          <a:p>
            <a:pPr lvl="2" marL="914400" indent="133200" algn="ctr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Univers 55"/>
              <a:buChar char="-"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3" marL="1371600" indent="252360" algn="ctr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Univers 55"/>
              <a:buChar char="-"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4" marL="1828800" indent="26676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66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66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4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mark.osborne@kpmg.co.uk" TargetMode="External"/><Relationship Id="rId2" Type="http://schemas.openxmlformats.org/officeDocument/2006/relationships/hyperlink" Target="mailto:mark.osborne@kpmg.co.uk" TargetMode="External"/><Relationship Id="rId3" Type="http://schemas.openxmlformats.org/officeDocument/2006/relationships/hyperlink" Target="mailto:mark.osborne@kpmg.co.uk" TargetMode="External"/><Relationship Id="rId4" Type="http://schemas.openxmlformats.org/officeDocument/2006/relationships/hyperlink" Target="mailto:mark.osborne@kpmg.co.uk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1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0000" spc="-1" strike="noStrike">
                <a:solidFill>
                  <a:srgbClr val="000066"/>
                </a:solidFill>
                <a:latin typeface="KPMG Logo"/>
              </a:rPr>
              <a:t>ABCD</a:t>
            </a:r>
            <a:endParaRPr b="1" lang="en-US" sz="10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0060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nivers 45 Light"/>
              </a:rPr>
              <a:t>E-Security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nivers 45 Light"/>
              </a:rPr>
              <a:t>October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© 2001 KPMG UK.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68840" y="3195720"/>
            <a:ext cx="2876760" cy="1900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13200" y="4113360"/>
            <a:ext cx="1114560" cy="641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14560" y="4114440"/>
            <a:ext cx="6215040" cy="46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27600" y="2066760"/>
            <a:ext cx="0" cy="198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early E-Security – Context attacks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96080" y="2895480"/>
            <a:ext cx="733680" cy="112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57160" y="3386160"/>
            <a:ext cx="223992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440160" y="3906720"/>
            <a:ext cx="749160" cy="441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417920" y="3903840"/>
            <a:ext cx="781200" cy="453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038480" y="1905120"/>
            <a:ext cx="1478160" cy="89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9280" y="394812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626080" y="4486320"/>
            <a:ext cx="673200" cy="56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38680" y="4495680"/>
            <a:ext cx="6098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8760" y="2514600"/>
            <a:ext cx="1024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Back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556320" y="3281400"/>
            <a:ext cx="0" cy="8524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238880" y="4114800"/>
            <a:ext cx="0" cy="8539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4253040"/>
            <a:ext cx="9331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858000" y="49528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495680" y="3809880"/>
            <a:ext cx="635040" cy="720720"/>
          </a:xfrm>
          <a:prstGeom prst="noSmoking">
            <a:avLst>
              <a:gd name="adj" fmla="val 12500"/>
            </a:avLst>
          </a:prstGeom>
          <a:solidFill>
            <a:srgbClr val="cf0e3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8640" y="5105520"/>
            <a:ext cx="4404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wall provides perimeter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47920" y="1981080"/>
          <a:ext cx="1463400" cy="1629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1981080"/>
                    <a:ext cx="14634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048120" y="350532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00600">
            <a:off x="5029200" y="4572000"/>
            <a:ext cx="533520" cy="210960"/>
          </a:xfrm>
          <a:prstGeom prst="rightArrow">
            <a:avLst>
              <a:gd name="adj1" fmla="val 50000"/>
              <a:gd name="adj2" fmla="val 63225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ower"/>
          <p:cNvSpPr/>
          <p:nvPr/>
        </p:nvSpPr>
        <p:spPr>
          <a:xfrm>
            <a:off x="6324480" y="2819520"/>
            <a:ext cx="533520" cy="6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228600" y="304920"/>
            <a:ext cx="2209680" cy="1981080"/>
          </a:xfrm>
          <a:prstGeom prst="wedgeEllipseCallout">
            <a:avLst>
              <a:gd name="adj1" fmla="val 55101"/>
              <a:gd name="adj2" fmla="val 524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W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R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Get m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752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NO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-spy with my little ey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the 7 layer OSI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2520" y="1752120"/>
            <a:ext cx="4760640" cy="4241880"/>
            <a:chOff x="3962520" y="1752120"/>
            <a:chExt cx="4760640" cy="4241880"/>
          </a:xfrm>
        </p:grpSpPr>
        <p:sp>
          <p:nvSpPr>
            <p:cNvPr id="157" name=""/>
            <p:cNvSpPr/>
            <p:nvPr/>
          </p:nvSpPr>
          <p:spPr>
            <a:xfrm flipH="1">
              <a:off x="5943240" y="1752480"/>
              <a:ext cx="366840" cy="1828800"/>
            </a:xfrm>
            <a:prstGeom prst="line">
              <a:avLst/>
            </a:prstGeom>
            <a:ln w="12600">
              <a:solidFill>
                <a:srgbClr val="738e63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821200" y="1751400"/>
              <a:ext cx="2901960" cy="4241880"/>
            </a:xfrm>
            <a:custGeom>
              <a:avLst/>
              <a:gdLst>
                <a:gd name="textAreaLeft" fmla="*/ 637560 w 2901960"/>
                <a:gd name="textAreaRight" fmla="*/ 2264400 w 2901960"/>
                <a:gd name="textAreaTop" fmla="*/ 932040 h 4241880"/>
                <a:gd name="textAreaBottom" fmla="*/ 3309840 h 42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5" y="21600"/>
                  </a:lnTo>
                  <a:lnTo>
                    <a:pt x="539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99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6320" y="1828800"/>
              <a:ext cx="895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7040" y="2438280"/>
              <a:ext cx="963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8120" y="2895480"/>
              <a:ext cx="558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S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1240" y="3417840"/>
              <a:ext cx="785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65280" y="3995640"/>
              <a:ext cx="66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68160" y="4572000"/>
              <a:ext cx="457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Dat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08840" y="5486400"/>
              <a:ext cx="1035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Physical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ae00"/>
                  </a:solidFill>
                  <a:latin typeface="Times New Roman"/>
                </a:rPr>
                <a:t>Layer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5080" y="2322360"/>
              <a:ext cx="165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50040" y="2900520"/>
              <a:ext cx="18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5520" y="33321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6880" y="3909960"/>
              <a:ext cx="21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78600" y="4486320"/>
              <a:ext cx="23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19840" y="5424480"/>
              <a:ext cx="27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562720" y="3809880"/>
              <a:ext cx="365040" cy="2057400"/>
            </a:xfrm>
            <a:prstGeom prst="line">
              <a:avLst/>
            </a:prstGeom>
            <a:ln w="12600">
              <a:solidFill>
                <a:srgbClr val="738e63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37339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638680" y="6431040"/>
            <a:ext cx="3276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609588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7 layer osi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71240" y="3733920"/>
            <a:ext cx="487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191120"/>
            <a:ext cx="38098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Univers 45 Light"/>
              </a:rPr>
              <a:t>Context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Fragg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Evil 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Port Sc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Sadm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600200"/>
            <a:ext cx="40384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Univers 45 Light"/>
              </a:rPr>
              <a:t>Content atta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Double-decode H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HTML print Hac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PHP Bu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SSL/Appa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Univers 45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Content attacks the Norm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47920" y="1371600"/>
            <a:ext cx="7009920" cy="4266720"/>
            <a:chOff x="1447920" y="1371600"/>
            <a:chExt cx="7009920" cy="4266720"/>
          </a:xfrm>
        </p:grpSpPr>
        <p:sp>
          <p:nvSpPr>
            <p:cNvPr id="181" name=""/>
            <p:cNvSpPr/>
            <p:nvPr/>
          </p:nvSpPr>
          <p:spPr>
            <a:xfrm>
              <a:off x="1447920" y="1584720"/>
              <a:ext cx="6740280" cy="405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920" y="1371600"/>
              <a:ext cx="7009920" cy="42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2362320" y="2361960"/>
            <a:ext cx="4952880" cy="29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06668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%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vulner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63868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590920"/>
            <a:ext cx="6476760" cy="0"/>
          </a:xfrm>
          <a:prstGeom prst="line">
            <a:avLst/>
          </a:prstGeom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8593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5867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48320" y="3048120"/>
            <a:ext cx="2590560" cy="1218960"/>
          </a:xfrm>
          <a:prstGeom prst="line">
            <a:avLst/>
          </a:prstGeom>
          <a:ln w="255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2767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IDS - At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moni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5867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19112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Scan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Attacks simul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624852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1828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Content rules from scanners or ids expressed as % of the total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Port 80 through firewall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8560" y="1143000"/>
            <a:ext cx="6797520" cy="502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owing port 80 through your firewall to your Web server, still exposes you to: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PHP Bugs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SSL/Appache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MSADC Hack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Unicode Hack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Double-decode Hack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-285480">
              <a:lnSpc>
                <a:spcPct val="105000"/>
              </a:lnSpc>
              <a:spcBef>
                <a:spcPts val="612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Univers 55"/>
              </a:rPr>
              <a:t>HTML print Hack (JILL)</a:t>
            </a:r>
            <a:endParaRPr b="0" lang="en-US" sz="33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0">
              <a:lnSpc>
                <a:spcPct val="105000"/>
              </a:lnSpc>
              <a:spcBef>
                <a:spcPts val="123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3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68840" y="3195720"/>
            <a:ext cx="3117960" cy="1900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33720" y="4114800"/>
            <a:ext cx="60195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27600" y="2066760"/>
            <a:ext cx="0" cy="198144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Basic</a:t>
            </a: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 Security Model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Likely outcome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848720" y="2895480"/>
            <a:ext cx="733320" cy="1125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895480" y="3962520"/>
            <a:ext cx="749520" cy="441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419720" y="3962520"/>
            <a:ext cx="780840" cy="453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4038480" y="1600200"/>
            <a:ext cx="1478160" cy="898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V="1">
            <a:off x="6858000" y="2971440"/>
            <a:ext cx="0" cy="11574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162920" y="4114440"/>
            <a:ext cx="0" cy="10666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840" y="4253040"/>
            <a:ext cx="9331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6781680" y="5105520"/>
            <a:ext cx="762120" cy="68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609480" y="1295280"/>
          <a:ext cx="1463760" cy="16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295280"/>
                    <a:ext cx="146376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752480" y="6172200"/>
            <a:ext cx="411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95160" y="380880"/>
            <a:ext cx="2590920" cy="19814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rewall do not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understand the content of that traffic – amplified by trend away from proxy sol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t tends NOT to protect against insecure web applications or web serv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28600" y="3200400"/>
            <a:ext cx="2011320" cy="1433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480" y="373392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35812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7593200">
            <a:off x="4571640" y="3124440"/>
            <a:ext cx="1371600" cy="304560"/>
          </a:xfrm>
          <a:prstGeom prst="rightArrow">
            <a:avLst>
              <a:gd name="adj1" fmla="val 50000"/>
              <a:gd name="adj2" fmla="val 112589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ower"/>
          <p:cNvSpPr/>
          <p:nvPr/>
        </p:nvSpPr>
        <p:spPr>
          <a:xfrm>
            <a:off x="6705720" y="2971800"/>
            <a:ext cx="533160" cy="6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ower"/>
          <p:cNvSpPr/>
          <p:nvPr/>
        </p:nvSpPr>
        <p:spPr>
          <a:xfrm>
            <a:off x="5562720" y="1981080"/>
            <a:ext cx="533160" cy="6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7480" y="1447920"/>
            <a:ext cx="9151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8640" y="311148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190512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2438280"/>
            <a:ext cx="16761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Porn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Def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-&gt; Loss of rep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p:transition advTm="12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Mr Big – Security Manager of bigger bank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ssues a press release before going 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 sick-leave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1600200"/>
            <a:ext cx="5943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There was an inci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The perpetrator was not detected until he defaced our Web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we didn’t know until the customers told 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200400"/>
            <a:ext cx="8001000" cy="3429000"/>
          </a:xfrm>
          <a:custGeom>
            <a:avLst/>
            <a:gdLst/>
            <a:ahLst/>
            <a:rect l="l" t="t" r="r" b="b"/>
            <a:pathLst>
              <a:path w="3231" h="1728">
                <a:moveTo>
                  <a:pt x="41" y="0"/>
                </a:moveTo>
                <a:cubicBezTo>
                  <a:pt x="0" y="40"/>
                  <a:pt x="27" y="51"/>
                  <a:pt x="41" y="99"/>
                </a:cubicBezTo>
                <a:cubicBezTo>
                  <a:pt x="57" y="155"/>
                  <a:pt x="74" y="208"/>
                  <a:pt x="85" y="265"/>
                </a:cubicBezTo>
                <a:cubicBezTo>
                  <a:pt x="89" y="302"/>
                  <a:pt x="93" y="339"/>
                  <a:pt x="96" y="376"/>
                </a:cubicBezTo>
                <a:cubicBezTo>
                  <a:pt x="101" y="435"/>
                  <a:pt x="102" y="494"/>
                  <a:pt x="107" y="553"/>
                </a:cubicBezTo>
                <a:cubicBezTo>
                  <a:pt x="120" y="698"/>
                  <a:pt x="161" y="844"/>
                  <a:pt x="196" y="985"/>
                </a:cubicBezTo>
                <a:cubicBezTo>
                  <a:pt x="210" y="1042"/>
                  <a:pt x="211" y="1111"/>
                  <a:pt x="240" y="1163"/>
                </a:cubicBezTo>
                <a:cubicBezTo>
                  <a:pt x="337" y="1339"/>
                  <a:pt x="482" y="1482"/>
                  <a:pt x="661" y="1572"/>
                </a:cubicBezTo>
                <a:cubicBezTo>
                  <a:pt x="703" y="1616"/>
                  <a:pt x="662" y="1579"/>
                  <a:pt x="738" y="1617"/>
                </a:cubicBezTo>
                <a:cubicBezTo>
                  <a:pt x="855" y="1675"/>
                  <a:pt x="974" y="1702"/>
                  <a:pt x="1104" y="1716"/>
                </a:cubicBezTo>
                <a:cubicBezTo>
                  <a:pt x="1314" y="1690"/>
                  <a:pt x="1525" y="1705"/>
                  <a:pt x="1735" y="1728"/>
                </a:cubicBezTo>
                <a:cubicBezTo>
                  <a:pt x="2123" y="1720"/>
                  <a:pt x="2510" y="1716"/>
                  <a:pt x="2898" y="1705"/>
                </a:cubicBezTo>
                <a:cubicBezTo>
                  <a:pt x="3010" y="1702"/>
                  <a:pt x="3119" y="1683"/>
                  <a:pt x="3231" y="1683"/>
                </a:cubicBezTo>
              </a:path>
            </a:pathLst>
          </a:custGeom>
          <a:noFill/>
          <a:ln w="6350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7772400" cy="3276720"/>
          </a:xfrm>
          <a:custGeom>
            <a:avLst/>
            <a:gdLst/>
            <a:ahLst/>
            <a:rect l="l" t="t" r="r" b="b"/>
            <a:pathLst>
              <a:path w="3231" h="1728">
                <a:moveTo>
                  <a:pt x="41" y="0"/>
                </a:moveTo>
                <a:cubicBezTo>
                  <a:pt x="0" y="40"/>
                  <a:pt x="27" y="51"/>
                  <a:pt x="41" y="99"/>
                </a:cubicBezTo>
                <a:cubicBezTo>
                  <a:pt x="57" y="155"/>
                  <a:pt x="74" y="208"/>
                  <a:pt x="85" y="265"/>
                </a:cubicBezTo>
                <a:cubicBezTo>
                  <a:pt x="89" y="302"/>
                  <a:pt x="93" y="339"/>
                  <a:pt x="96" y="376"/>
                </a:cubicBezTo>
                <a:cubicBezTo>
                  <a:pt x="101" y="435"/>
                  <a:pt x="102" y="494"/>
                  <a:pt x="107" y="553"/>
                </a:cubicBezTo>
                <a:cubicBezTo>
                  <a:pt x="120" y="698"/>
                  <a:pt x="161" y="844"/>
                  <a:pt x="196" y="985"/>
                </a:cubicBezTo>
                <a:cubicBezTo>
                  <a:pt x="210" y="1042"/>
                  <a:pt x="211" y="1111"/>
                  <a:pt x="240" y="1163"/>
                </a:cubicBezTo>
                <a:cubicBezTo>
                  <a:pt x="337" y="1339"/>
                  <a:pt x="482" y="1482"/>
                  <a:pt x="661" y="1572"/>
                </a:cubicBezTo>
                <a:cubicBezTo>
                  <a:pt x="703" y="1616"/>
                  <a:pt x="662" y="1579"/>
                  <a:pt x="738" y="1617"/>
                </a:cubicBezTo>
                <a:cubicBezTo>
                  <a:pt x="855" y="1675"/>
                  <a:pt x="974" y="1702"/>
                  <a:pt x="1104" y="1716"/>
                </a:cubicBezTo>
                <a:cubicBezTo>
                  <a:pt x="1314" y="1690"/>
                  <a:pt x="1525" y="1705"/>
                  <a:pt x="1735" y="1728"/>
                </a:cubicBezTo>
                <a:cubicBezTo>
                  <a:pt x="2123" y="1720"/>
                  <a:pt x="2510" y="1716"/>
                  <a:pt x="2898" y="1705"/>
                </a:cubicBezTo>
                <a:cubicBezTo>
                  <a:pt x="3010" y="1702"/>
                  <a:pt x="3119" y="1683"/>
                  <a:pt x="3231" y="168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467480" y="5105520"/>
            <a:ext cx="1676520" cy="1752480"/>
            <a:chOff x="7467480" y="5105520"/>
            <a:chExt cx="1676520" cy="1752480"/>
          </a:xfrm>
        </p:grpSpPr>
        <p:sp>
          <p:nvSpPr>
            <p:cNvPr id="230" name=""/>
            <p:cNvSpPr/>
            <p:nvPr/>
          </p:nvSpPr>
          <p:spPr>
            <a:xfrm>
              <a:off x="7467480" y="5105520"/>
              <a:ext cx="1676520" cy="68580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9600" y="5715000"/>
              <a:ext cx="0" cy="114300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6095880" y="4495680"/>
          <a:ext cx="1576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495680"/>
                    <a:ext cx="157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4572000"/>
          <a:ext cx="127152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12715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0" y="4572000"/>
            <a:ext cx="15238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-304920" y="-609480"/>
          <a:ext cx="3111480" cy="388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04920" y="-609480"/>
                    <a:ext cx="3111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"/>
          <p:cNvGrpSpPr/>
          <p:nvPr/>
        </p:nvGrpSpPr>
        <p:grpSpPr>
          <a:xfrm>
            <a:off x="0" y="4648320"/>
            <a:ext cx="1676520" cy="1752480"/>
            <a:chOff x="0" y="4648320"/>
            <a:chExt cx="1676520" cy="1752480"/>
          </a:xfrm>
        </p:grpSpPr>
        <p:sp>
          <p:nvSpPr>
            <p:cNvPr id="240" name=""/>
            <p:cNvSpPr/>
            <p:nvPr/>
          </p:nvSpPr>
          <p:spPr>
            <a:xfrm>
              <a:off x="0" y="4648320"/>
              <a:ext cx="1676520" cy="68580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120" y="5257800"/>
              <a:ext cx="0" cy="114300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inimise the effect of Hacking</a:t>
            </a:r>
            <a:r>
              <a:rPr b="1" lang="en-GB" sz="3600" spc="-1" strike="noStrike">
                <a:solidFill>
                  <a:srgbClr val="000066"/>
                </a:solidFill>
                <a:latin typeface="Univers 45 Light"/>
              </a:rPr>
              <a:t> How IDS can help</a:t>
            </a:r>
            <a:endParaRPr b="1" lang="en-US" sz="3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Univers 45 Light"/>
              </a:rPr>
              <a:t> </a:t>
            </a: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124080"/>
            <a:ext cx="1523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BD06663_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429000" cy="304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568840" y="3195720"/>
            <a:ext cx="2876760" cy="1900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2057400" y="4419360"/>
            <a:ext cx="6443640" cy="4680"/>
          </a:xfrm>
          <a:prstGeom prst="line">
            <a:avLst/>
          </a:prstGeom>
          <a:ln w="7632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876920" y="2285640"/>
            <a:ext cx="0" cy="1981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How IDS can help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153280" y="3124080"/>
            <a:ext cx="733680" cy="1125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49160" cy="441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2239920" cy="1433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495680" y="4191120"/>
            <a:ext cx="781200" cy="453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4114800" y="1371600"/>
            <a:ext cx="1477800" cy="1050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43360" y="396252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8600" y="2590920"/>
            <a:ext cx="1024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Back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2920" y="3581280"/>
            <a:ext cx="0" cy="8524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848720" y="4343400"/>
            <a:ext cx="0" cy="8539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9080" y="4572000"/>
            <a:ext cx="9331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7467480" y="518148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400800" y="4114800"/>
            <a:ext cx="7542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2971800"/>
            <a:ext cx="9126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7772400" y="838080"/>
            <a:ext cx="1143000" cy="1130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5257080" y="1600200"/>
            <a:ext cx="1685880" cy="385920"/>
          </a:xfrm>
          <a:prstGeom prst="lightningBol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105520"/>
            <a:ext cx="617220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ds in a passive mode can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notification - an “EARLY WARNING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staff so they can ac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90720" y="1447920"/>
          <a:ext cx="146340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1447920"/>
                    <a:ext cx="146340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971800" y="35053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4647960" y="2895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514600"/>
            <a:ext cx="1295640" cy="91584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08800 h 915840"/>
              <a:gd name="textAreaBottom" fmla="*/ 707040 h 91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NetRanger" descr=""/>
          <p:cNvPicPr/>
          <p:nvPr/>
        </p:nvPicPr>
        <p:blipFill>
          <a:blip r:embed="rId11"/>
          <a:stretch/>
        </p:blipFill>
        <p:spPr>
          <a:xfrm>
            <a:off x="3429000" y="2743200"/>
            <a:ext cx="760320" cy="433440"/>
          </a:xfrm>
          <a:prstGeom prst="rect">
            <a:avLst/>
          </a:prstGeom>
          <a:ln w="0">
            <a:noFill/>
          </a:ln>
        </p:spPr>
      </p:pic>
      <p:pic>
        <p:nvPicPr>
          <p:cNvPr id="272" name="NetRanger" descr=""/>
          <p:cNvPicPr/>
          <p:nvPr/>
        </p:nvPicPr>
        <p:blipFill>
          <a:blip r:embed="rId12"/>
          <a:stretch/>
        </p:blipFill>
        <p:spPr>
          <a:xfrm>
            <a:off x="6019920" y="3962520"/>
            <a:ext cx="417240" cy="237960"/>
          </a:xfrm>
          <a:prstGeom prst="rect">
            <a:avLst/>
          </a:prstGeom>
          <a:ln w="0">
            <a:noFill/>
          </a:ln>
        </p:spPr>
      </p:pic>
      <p:sp>
        <p:nvSpPr>
          <p:cNvPr id="273" name="tower"/>
          <p:cNvSpPr/>
          <p:nvPr/>
        </p:nvSpPr>
        <p:spPr>
          <a:xfrm>
            <a:off x="6934320" y="2895480"/>
            <a:ext cx="533160" cy="6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1066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Mr Big – Security Manager</a:t>
            </a: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of bigger-bank can issue a press release saying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2057400"/>
            <a:ext cx="46483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There was an inci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The perpetrator was detected by ou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And prevented from accessing anything other than public accessible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Univers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And that Customer property was never touched and remained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1523880"/>
          <a:ext cx="374796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374796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Univers 45 Light"/>
              </a:rPr>
              <a:t>Active IDS</a:t>
            </a:r>
            <a:endParaRPr b="1" lang="en-US" sz="3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Univers 45 Light"/>
              </a:rPr>
              <a:t>More than going beep</a:t>
            </a: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Who am I –  Who ate all the pies?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91" name="071472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273204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6200" y="22093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 algn="just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  <a:ea typeface="Times New Roman"/>
              </a:rPr>
              <a:t>Mark has substantial technical experience in Internet, E-commerce and M-commerce security, having developed many of the technical security services at KPMG.  He has an in-depth knowledge of many commercial firewalls, Intrusion Detection Systems and PKIs.  He established KPMG's Technical Security team eight years ago to meet the need for practical best-practice E-commerce security, before the term E-commerce security was popularised.  This team has a long track record of success in delivering implementation and assurance services to most leading UK  financial</a:t>
            </a:r>
            <a:r>
              <a:rPr b="0" lang="en-US" sz="1800" spc="-1" strike="noStrike">
                <a:solidFill>
                  <a:srgbClr val="0000ff"/>
                </a:solidFill>
                <a:latin typeface="Univers 45 Light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Univers 45 Light"/>
                <a:ea typeface="Times New Roman"/>
              </a:rPr>
              <a:t>institutions</a:t>
            </a:r>
            <a:r>
              <a:rPr b="0" lang="en-US" sz="1800" spc="-1" strike="noStrike">
                <a:solidFill>
                  <a:srgbClr val="0000ff"/>
                </a:solidFill>
                <a:latin typeface="Univers 45 Light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Univers 45 Light"/>
                <a:ea typeface="Times New Roman"/>
              </a:rPr>
              <a:t>Mark Osborne </a:t>
            </a:r>
            <a:r>
              <a:rPr b="1" lang="en-GB" sz="2200" spc="-1" strike="noStrike">
                <a:solidFill>
                  <a:srgbClr val="000000"/>
                </a:solidFill>
                <a:latin typeface="Univers 45 Light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Univers 45 Light"/>
                <a:ea typeface="Times New Roman"/>
              </a:rPr>
              <a:t>Director of 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568840" y="3195720"/>
            <a:ext cx="2876760" cy="1900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V="1">
            <a:off x="2057400" y="4419360"/>
            <a:ext cx="6443640" cy="4680"/>
          </a:xfrm>
          <a:prstGeom prst="line">
            <a:avLst/>
          </a:prstGeom>
          <a:ln w="7632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76920" y="2285640"/>
            <a:ext cx="0" cy="1981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Advanced</a:t>
            </a: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DS</a:t>
            </a: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- Shunning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153280" y="3124080"/>
            <a:ext cx="733680" cy="1125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49160" cy="441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2239920" cy="1433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495680" y="4191120"/>
            <a:ext cx="781200" cy="453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4114800" y="1371600"/>
            <a:ext cx="1477800" cy="1050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43360" y="396252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8600" y="2590920"/>
            <a:ext cx="102456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Back off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162920" y="3581280"/>
            <a:ext cx="0" cy="8524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620120" y="4419720"/>
            <a:ext cx="0" cy="8539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09080" y="4572000"/>
            <a:ext cx="9331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7238880" y="5257800"/>
            <a:ext cx="762120" cy="689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400800" y="4114800"/>
            <a:ext cx="7542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2971800"/>
            <a:ext cx="91260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7772400" y="838080"/>
            <a:ext cx="1143000" cy="1130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H="1">
            <a:off x="5257080" y="1600200"/>
            <a:ext cx="1685880" cy="385920"/>
          </a:xfrm>
          <a:prstGeom prst="lightningBol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5029200"/>
            <a:ext cx="63244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the IDS provi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notific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ut also “SHUNS”  or temporarily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at the firewall or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990720" y="1447920"/>
          <a:ext cx="146340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1447920"/>
                    <a:ext cx="146340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3048120" y="38098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4381560" y="308628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514600"/>
            <a:ext cx="1295640" cy="91584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08800 h 915840"/>
              <a:gd name="textAreaBottom" fmla="*/ 707040 h 91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NetRanger" descr=""/>
          <p:cNvPicPr/>
          <p:nvPr/>
        </p:nvPicPr>
        <p:blipFill>
          <a:blip r:embed="rId11"/>
          <a:stretch/>
        </p:blipFill>
        <p:spPr>
          <a:xfrm>
            <a:off x="3429000" y="2743200"/>
            <a:ext cx="76032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NetRanger" descr=""/>
          <p:cNvPicPr/>
          <p:nvPr/>
        </p:nvPicPr>
        <p:blipFill>
          <a:blip r:embed="rId12"/>
          <a:stretch/>
        </p:blipFill>
        <p:spPr>
          <a:xfrm>
            <a:off x="6019920" y="3962520"/>
            <a:ext cx="417240" cy="237960"/>
          </a:xfrm>
          <a:prstGeom prst="rect">
            <a:avLst/>
          </a:prstGeom>
          <a:ln w="0">
            <a:noFill/>
          </a:ln>
        </p:spPr>
      </p:pic>
      <p:sp>
        <p:nvSpPr>
          <p:cNvPr id="308" name="tower"/>
          <p:cNvSpPr/>
          <p:nvPr/>
        </p:nvSpPr>
        <p:spPr>
          <a:xfrm>
            <a:off x="6934320" y="2895480"/>
            <a:ext cx="533160" cy="685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24680" y="1066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505320"/>
            <a:ext cx="1015920" cy="873000"/>
          </a:xfrm>
          <a:prstGeom prst="noSmoking">
            <a:avLst>
              <a:gd name="adj" fmla="val 12500"/>
            </a:avLst>
          </a:prstGeom>
          <a:solidFill>
            <a:srgbClr val="cf0e3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1752480"/>
            <a:ext cx="5334120" cy="1817640"/>
          </a:xfrm>
          <a:prstGeom prst="borderCallout1">
            <a:avLst>
              <a:gd name="adj1" fmla="val 18750"/>
              <a:gd name="adj2" fmla="val -8333"/>
              <a:gd name="adj3" fmla="val 149430"/>
              <a:gd name="adj4" fmla="val -592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afd00"/>
                </a:solidFill>
                <a:latin typeface="Univers 45 Light"/>
              </a:rPr>
              <a:t>Dynamically insta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afd00"/>
                </a:solidFill>
                <a:latin typeface="Univers 45 Light"/>
              </a:rPr>
              <a:t>Access-list 102 Deny tcp hacker our-net eq 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Univers 45 Light"/>
              </a:rPr>
              <a:t>Fluff Osborne’s</a:t>
            </a:r>
            <a:endParaRPr b="1" lang="en-US" sz="3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Univers 45 Light"/>
              </a:rPr>
              <a:t>Top-Five IDS Bloops</a:t>
            </a:r>
            <a:endParaRPr b="1" lang="en-US" sz="3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4724280"/>
            <a:ext cx="7086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Univers 45 Light"/>
              </a:rPr>
              <a:t>Why does it go beep all day and all night but miss the attack when our website got viol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3627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81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317" name="SY00419_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6576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4876920" y="2057400"/>
            <a:ext cx="4267080" cy="3078000"/>
            <a:chOff x="4876920" y="2057400"/>
            <a:chExt cx="4267080" cy="3078000"/>
          </a:xfrm>
        </p:grpSpPr>
        <p:sp>
          <p:nvSpPr>
            <p:cNvPr id="319" name=""/>
            <p:cNvSpPr/>
            <p:nvPr/>
          </p:nvSpPr>
          <p:spPr>
            <a:xfrm>
              <a:off x="4998960" y="2057400"/>
              <a:ext cx="4145040" cy="3078000"/>
            </a:xfrm>
            <a:prstGeom prst="rect">
              <a:avLst/>
            </a:prstGeom>
            <a:gradFill rotWithShape="0">
              <a:gsLst>
                <a:gs pos="0">
                  <a:srgbClr val="8ddaff"/>
                </a:gs>
                <a:gs pos="50000">
                  <a:srgbClr val="b9e7fe"/>
                </a:gs>
                <a:gs pos="100000">
                  <a:srgbClr val="8ddaff"/>
                </a:gs>
              </a:gsLst>
              <a:lin ang="5400000"/>
            </a:gra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6154560" y="3591000"/>
              <a:ext cx="103356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5119560" y="2127240"/>
              <a:ext cx="3954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curity Off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4356000"/>
              <a:ext cx="1277640" cy="209520"/>
            </a:xfrm>
            <a:custGeom>
              <a:avLst/>
              <a:gdLst/>
              <a:ahLst/>
              <a:rect l="l" t="t" r="r" b="b"/>
              <a:pathLst>
                <a:path w="652" h="99">
                  <a:moveTo>
                    <a:pt x="0" y="98"/>
                  </a:moveTo>
                  <a:lnTo>
                    <a:pt x="547" y="98"/>
                  </a:lnTo>
                  <a:lnTo>
                    <a:pt x="651" y="0"/>
                  </a:lnTo>
                  <a:lnTo>
                    <a:pt x="104" y="1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686868"/>
                </a:gs>
                <a:gs pos="100000">
                  <a:srgbClr val="96969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059440" y="3521160"/>
              <a:ext cx="1033200" cy="853200"/>
              <a:chOff x="5059440" y="3521160"/>
              <a:chExt cx="1033200" cy="853200"/>
            </a:xfrm>
          </p:grpSpPr>
          <p:sp>
            <p:nvSpPr>
              <p:cNvPr id="324" name=""/>
              <p:cNvSpPr/>
              <p:nvPr/>
            </p:nvSpPr>
            <p:spPr>
              <a:xfrm>
                <a:off x="5059440" y="3521160"/>
                <a:ext cx="1033200" cy="85320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424242"/>
                  </a:gs>
                  <a:gs pos="100000">
                    <a:srgbClr val="868686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13440" y="3608640"/>
                <a:ext cx="256320" cy="31788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13440" y="3990960"/>
                <a:ext cx="256320" cy="31860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41400" y="3608640"/>
                <a:ext cx="256320" cy="31788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41400" y="3990960"/>
                <a:ext cx="256320" cy="31860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9720" y="3608640"/>
                <a:ext cx="256320" cy="31788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69720" y="3990960"/>
                <a:ext cx="256320" cy="31860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>
            <a:off x="5765760" y="4370400"/>
            <a:ext cx="95400" cy="50760"/>
          </a:xfrm>
          <a:custGeom>
            <a:avLst/>
            <a:gdLst/>
            <a:ahLst/>
            <a:rect l="l" t="t" r="r" b="b"/>
            <a:pathLst>
              <a:path w="68" h="31">
                <a:moveTo>
                  <a:pt x="67" y="13"/>
                </a:moveTo>
                <a:lnTo>
                  <a:pt x="47" y="13"/>
                </a:lnTo>
                <a:lnTo>
                  <a:pt x="32" y="0"/>
                </a:lnTo>
                <a:lnTo>
                  <a:pt x="12" y="8"/>
                </a:lnTo>
                <a:lnTo>
                  <a:pt x="7" y="10"/>
                </a:lnTo>
                <a:lnTo>
                  <a:pt x="0" y="15"/>
                </a:lnTo>
                <a:lnTo>
                  <a:pt x="2" y="25"/>
                </a:lnTo>
                <a:lnTo>
                  <a:pt x="7" y="25"/>
                </a:lnTo>
                <a:lnTo>
                  <a:pt x="10" y="18"/>
                </a:lnTo>
                <a:lnTo>
                  <a:pt x="12" y="15"/>
                </a:lnTo>
                <a:lnTo>
                  <a:pt x="22" y="18"/>
                </a:lnTo>
                <a:lnTo>
                  <a:pt x="15" y="20"/>
                </a:lnTo>
                <a:lnTo>
                  <a:pt x="12" y="20"/>
                </a:lnTo>
                <a:lnTo>
                  <a:pt x="12" y="25"/>
                </a:lnTo>
                <a:lnTo>
                  <a:pt x="35" y="30"/>
                </a:lnTo>
                <a:lnTo>
                  <a:pt x="50" y="25"/>
                </a:lnTo>
                <a:lnTo>
                  <a:pt x="64" y="25"/>
                </a:lnTo>
                <a:lnTo>
                  <a:pt x="67" y="13"/>
                </a:lnTo>
              </a:path>
            </a:pathLst>
          </a:cu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48200" y="4384800"/>
            <a:ext cx="127080" cy="61920"/>
          </a:xfrm>
          <a:custGeom>
            <a:avLst/>
            <a:gdLst/>
            <a:ahLst/>
            <a:rect l="l" t="t" r="r" b="b"/>
            <a:pathLst>
              <a:path w="89" h="38">
                <a:moveTo>
                  <a:pt x="88" y="0"/>
                </a:moveTo>
                <a:lnTo>
                  <a:pt x="5" y="2"/>
                </a:lnTo>
                <a:lnTo>
                  <a:pt x="0" y="10"/>
                </a:lnTo>
                <a:lnTo>
                  <a:pt x="0" y="25"/>
                </a:lnTo>
                <a:lnTo>
                  <a:pt x="65" y="37"/>
                </a:lnTo>
                <a:lnTo>
                  <a:pt x="88" y="0"/>
                </a:lnTo>
              </a:path>
            </a:pathLst>
          </a:cu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0000" y="4356000"/>
            <a:ext cx="127080" cy="63720"/>
          </a:xfrm>
          <a:custGeom>
            <a:avLst/>
            <a:gdLst/>
            <a:ahLst/>
            <a:rect l="l" t="t" r="r" b="b"/>
            <a:pathLst>
              <a:path w="89" h="38">
                <a:moveTo>
                  <a:pt x="88" y="0"/>
                </a:moveTo>
                <a:lnTo>
                  <a:pt x="5" y="2"/>
                </a:lnTo>
                <a:lnTo>
                  <a:pt x="0" y="10"/>
                </a:lnTo>
                <a:lnTo>
                  <a:pt x="0" y="25"/>
                </a:lnTo>
                <a:lnTo>
                  <a:pt x="65" y="37"/>
                </a:lnTo>
                <a:lnTo>
                  <a:pt x="88" y="0"/>
                </a:lnTo>
              </a:path>
            </a:pathLst>
          </a:custGeom>
          <a:solidFill>
            <a:srgbClr val="006c8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7000" y="4286160"/>
            <a:ext cx="79560" cy="71640"/>
          </a:xfrm>
          <a:custGeom>
            <a:avLst/>
            <a:gdLst/>
            <a:ahLst/>
            <a:rect l="l" t="t" r="r" b="b"/>
            <a:pathLst>
              <a:path w="56" h="44">
                <a:moveTo>
                  <a:pt x="55" y="28"/>
                </a:moveTo>
                <a:lnTo>
                  <a:pt x="37" y="18"/>
                </a:lnTo>
                <a:lnTo>
                  <a:pt x="37" y="5"/>
                </a:lnTo>
                <a:lnTo>
                  <a:pt x="25" y="0"/>
                </a:lnTo>
                <a:lnTo>
                  <a:pt x="22" y="0"/>
                </a:lnTo>
                <a:lnTo>
                  <a:pt x="22" y="5"/>
                </a:lnTo>
                <a:lnTo>
                  <a:pt x="13" y="3"/>
                </a:lnTo>
                <a:lnTo>
                  <a:pt x="3" y="0"/>
                </a:lnTo>
                <a:lnTo>
                  <a:pt x="0" y="5"/>
                </a:lnTo>
                <a:lnTo>
                  <a:pt x="3" y="8"/>
                </a:lnTo>
                <a:lnTo>
                  <a:pt x="3" y="30"/>
                </a:lnTo>
                <a:lnTo>
                  <a:pt x="20" y="40"/>
                </a:lnTo>
                <a:lnTo>
                  <a:pt x="25" y="40"/>
                </a:lnTo>
                <a:lnTo>
                  <a:pt x="35" y="43"/>
                </a:lnTo>
                <a:lnTo>
                  <a:pt x="55" y="28"/>
                </a:lnTo>
              </a:path>
            </a:pathLst>
          </a:custGeom>
          <a:solidFill>
            <a:srgbClr val="006c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75560" y="2614680"/>
            <a:ext cx="1131840" cy="2489040"/>
          </a:xfrm>
          <a:prstGeom prst="rect">
            <a:avLst/>
          </a:prstGeom>
          <a:gradFill rotWithShape="0">
            <a:gsLst>
              <a:gs pos="0">
                <a:srgbClr val="2a70cb"/>
              </a:gs>
              <a:gs pos="50000">
                <a:srgbClr val="358dff"/>
              </a:gs>
              <a:gs pos="100000">
                <a:srgbClr val="2a70cb"/>
              </a:gs>
            </a:gsLst>
            <a:lin ang="13500000"/>
          </a:gra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36040" y="3659040"/>
            <a:ext cx="134640" cy="1540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d019"/>
              </a:gs>
              <a:gs pos="100000">
                <a:srgbClr val="ffcc00"/>
              </a:gs>
            </a:gsLst>
            <a:lin ang="135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32520" y="4356000"/>
            <a:ext cx="1216080" cy="209520"/>
          </a:xfrm>
          <a:custGeom>
            <a:avLst/>
            <a:gdLst/>
            <a:ahLst/>
            <a:rect l="l" t="t" r="r" b="b"/>
            <a:pathLst>
              <a:path w="652" h="99">
                <a:moveTo>
                  <a:pt x="0" y="98"/>
                </a:moveTo>
                <a:lnTo>
                  <a:pt x="547" y="98"/>
                </a:lnTo>
                <a:lnTo>
                  <a:pt x="651" y="0"/>
                </a:lnTo>
                <a:lnTo>
                  <a:pt x="104" y="1"/>
                </a:lnTo>
                <a:lnTo>
                  <a:pt x="0" y="98"/>
                </a:lnTo>
              </a:path>
            </a:pathLst>
          </a:custGeom>
          <a:gradFill rotWithShape="0">
            <a:gsLst>
              <a:gs pos="0">
                <a:srgbClr val="686868"/>
              </a:gs>
              <a:gs pos="100000">
                <a:srgbClr val="969696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75520" y="372888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3352680"/>
            <a:ext cx="1371600" cy="79056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180360 h 790560"/>
              <a:gd name="textAreaBottom" fmla="*/ 610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tRanger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760320" cy="433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895480" y="3809880"/>
            <a:ext cx="0" cy="60984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4419720"/>
            <a:ext cx="2210040" cy="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1981080"/>
          <a:ext cx="146376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146376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1981080" y="4267080"/>
            <a:ext cx="1478160" cy="898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rot="1487400">
            <a:off x="1143000" y="388620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7391520" y="2971800"/>
          <a:ext cx="1576440" cy="22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2971800"/>
                    <a:ext cx="157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733920" y="2057400"/>
            <a:ext cx="4267080" cy="1371600"/>
          </a:xfrm>
          <a:prstGeom prst="wedgeEllipseCallout">
            <a:avLst>
              <a:gd name="adj1" fmla="val 52046"/>
              <a:gd name="adj2" fmla="val 5277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Now W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365760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Alert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152280"/>
            <a:ext cx="7623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 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Incident Response procedures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7315200" y="5257800"/>
            <a:ext cx="1611000" cy="1294920"/>
            <a:chOff x="7315200" y="5257800"/>
            <a:chExt cx="1611000" cy="1294920"/>
          </a:xfrm>
        </p:grpSpPr>
        <p:sp>
          <p:nvSpPr>
            <p:cNvPr id="353" name=""/>
            <p:cNvSpPr/>
            <p:nvPr/>
          </p:nvSpPr>
          <p:spPr>
            <a:xfrm>
              <a:off x="7572960" y="5938920"/>
              <a:ext cx="1353240" cy="61380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63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70440" y="5955840"/>
              <a:ext cx="1313280" cy="58572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8400" y="5998680"/>
              <a:ext cx="370800" cy="2073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1560" y="6214320"/>
              <a:ext cx="0" cy="2048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7" name=""/>
            <p:cNvGraphicFramePr/>
            <p:nvPr/>
          </p:nvGraphicFramePr>
          <p:xfrm>
            <a:off x="7993080" y="5941440"/>
            <a:ext cx="265680" cy="4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93080" y="5941440"/>
                      <a:ext cx="2656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"/>
            <p:cNvGraphicFramePr/>
            <p:nvPr/>
          </p:nvGraphicFramePr>
          <p:xfrm>
            <a:off x="7315200" y="5257800"/>
            <a:ext cx="526320" cy="69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5257800"/>
                      <a:ext cx="5263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"/>
          <p:cNvSpPr/>
          <p:nvPr/>
        </p:nvSpPr>
        <p:spPr>
          <a:xfrm>
            <a:off x="898560" y="1219320"/>
            <a:ext cx="7407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The primary role of an IDS is to monitor and report on suspicious activity.  If appropriate action isn’t taken when this occurs the incident will have maximum impact, meaning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nvestment in IDS is wa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Heads 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Univers 45 Light"/>
              </a:rPr>
              <a:t>3 out of 5 organisations that commissioned us to do IDS reviews had no incid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623000" cy="1141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 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Incident Response procedures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898560" y="1498680"/>
            <a:ext cx="7407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rmAutofit fontScale="99000"/>
          </a:bodyPr>
          <a:p>
            <a:pPr marL="376920" indent="-37692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You need </a:t>
            </a:r>
            <a:r>
              <a:rPr b="1" i="1" lang="en-GB" sz="2400" spc="-1" strike="noStrike">
                <a:solidFill>
                  <a:srgbClr val="000000"/>
                </a:solidFill>
                <a:latin typeface="Univers 45 Light"/>
              </a:rPr>
              <a:t>Incident Response procedures</a:t>
            </a: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 and plan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Defines </a:t>
            </a:r>
            <a:r>
              <a:rPr b="1" i="1" lang="en-GB" sz="2400" spc="-1" strike="noStrike">
                <a:solidFill>
                  <a:srgbClr val="000000"/>
                </a:solidFill>
                <a:latin typeface="Univers 45 Light"/>
              </a:rPr>
              <a:t>Incident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dentifies key staff (cert 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dentifies key systems and recovery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nvolves all relevant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8520" indent="-28260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 55"/>
              </a:rPr>
              <a:t>External (CERT, Law enforceme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8520" indent="-282600">
              <a:lnSpc>
                <a:spcPct val="105000"/>
              </a:lnSpc>
              <a:spcBef>
                <a:spcPts val="414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 55"/>
              </a:rPr>
              <a:t>Internal (PR, LEGAL, IT &amp; Busin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These plans need to be t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623000" cy="1141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 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Incident Response procedures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Solution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559640" y="4952880"/>
          <a:ext cx="136224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9640" y="4952880"/>
                    <a:ext cx="13622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3627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81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369" name="SY00418_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339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5334120"/>
            <a:ext cx="7623360" cy="1141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Security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s a 24X7 function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876920" y="2057400"/>
            <a:ext cx="4266720" cy="3252600"/>
            <a:chOff x="4876920" y="2057400"/>
            <a:chExt cx="4266720" cy="3252600"/>
          </a:xfrm>
        </p:grpSpPr>
        <p:sp>
          <p:nvSpPr>
            <p:cNvPr id="372" name=""/>
            <p:cNvSpPr/>
            <p:nvPr/>
          </p:nvSpPr>
          <p:spPr>
            <a:xfrm>
              <a:off x="4998240" y="2057400"/>
              <a:ext cx="4145400" cy="3078720"/>
            </a:xfrm>
            <a:prstGeom prst="rect">
              <a:avLst/>
            </a:prstGeom>
            <a:gradFill rotWithShape="0">
              <a:gsLst>
                <a:gs pos="0">
                  <a:srgbClr val="8ddaff"/>
                </a:gs>
                <a:gs pos="50000">
                  <a:srgbClr val="b9e7fe"/>
                </a:gs>
                <a:gs pos="100000">
                  <a:srgbClr val="8ddaff"/>
                </a:gs>
              </a:gsLst>
              <a:lin ang="5400000"/>
            </a:gra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19920" y="2126520"/>
              <a:ext cx="39542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curity Off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4356720"/>
              <a:ext cx="1277280" cy="208800"/>
            </a:xfrm>
            <a:custGeom>
              <a:avLst/>
              <a:gdLst/>
              <a:ahLst/>
              <a:rect l="l" t="t" r="r" b="b"/>
              <a:pathLst>
                <a:path w="652" h="99">
                  <a:moveTo>
                    <a:pt x="0" y="98"/>
                  </a:moveTo>
                  <a:lnTo>
                    <a:pt x="547" y="98"/>
                  </a:lnTo>
                  <a:lnTo>
                    <a:pt x="651" y="0"/>
                  </a:lnTo>
                  <a:lnTo>
                    <a:pt x="104" y="1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686868"/>
                </a:gs>
                <a:gs pos="100000">
                  <a:srgbClr val="96969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059080" y="3520440"/>
              <a:ext cx="1033560" cy="853920"/>
              <a:chOff x="5059080" y="3520440"/>
              <a:chExt cx="1033560" cy="853920"/>
            </a:xfrm>
          </p:grpSpPr>
          <p:sp>
            <p:nvSpPr>
              <p:cNvPr id="376" name=""/>
              <p:cNvSpPr/>
              <p:nvPr/>
            </p:nvSpPr>
            <p:spPr>
              <a:xfrm>
                <a:off x="5059080" y="3520440"/>
                <a:ext cx="1033560" cy="85392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424242"/>
                  </a:gs>
                  <a:gs pos="100000">
                    <a:srgbClr val="868686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13080" y="3607920"/>
                <a:ext cx="256320" cy="31824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13080" y="3990600"/>
                <a:ext cx="256320" cy="31896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41040" y="3607920"/>
                <a:ext cx="256320" cy="31824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41040" y="3990600"/>
                <a:ext cx="256320" cy="31896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69720" y="3607920"/>
                <a:ext cx="256320" cy="31824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69720" y="3990600"/>
                <a:ext cx="256320" cy="318960"/>
              </a:xfrm>
              <a:prstGeom prst="rect">
                <a:avLst/>
              </a:prstGeom>
              <a:gradFill rotWithShape="0">
                <a:gsLst>
                  <a:gs pos="0">
                    <a:srgbClr val="868686"/>
                  </a:gs>
                  <a:gs pos="50000">
                    <a:srgbClr val="b5b5b5"/>
                  </a:gs>
                  <a:gs pos="100000">
                    <a:srgbClr val="868686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765040" y="4371120"/>
              <a:ext cx="96120" cy="504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67" y="13"/>
                  </a:moveTo>
                  <a:lnTo>
                    <a:pt x="47" y="13"/>
                  </a:lnTo>
                  <a:lnTo>
                    <a:pt x="32" y="0"/>
                  </a:lnTo>
                  <a:lnTo>
                    <a:pt x="12" y="8"/>
                  </a:lnTo>
                  <a:lnTo>
                    <a:pt x="7" y="10"/>
                  </a:lnTo>
                  <a:lnTo>
                    <a:pt x="0" y="15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10" y="18"/>
                  </a:lnTo>
                  <a:lnTo>
                    <a:pt x="12" y="15"/>
                  </a:lnTo>
                  <a:lnTo>
                    <a:pt x="22" y="18"/>
                  </a:lnTo>
                  <a:lnTo>
                    <a:pt x="15" y="20"/>
                  </a:lnTo>
                  <a:lnTo>
                    <a:pt x="12" y="20"/>
                  </a:lnTo>
                  <a:lnTo>
                    <a:pt x="12" y="25"/>
                  </a:lnTo>
                  <a:lnTo>
                    <a:pt x="35" y="30"/>
                  </a:lnTo>
                  <a:lnTo>
                    <a:pt x="50" y="25"/>
                  </a:lnTo>
                  <a:lnTo>
                    <a:pt x="64" y="25"/>
                  </a:lnTo>
                  <a:lnTo>
                    <a:pt x="67" y="13"/>
                  </a:lnTo>
                </a:path>
              </a:pathLst>
            </a:custGeom>
            <a:solidFill>
              <a:srgbClr val="00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8920" y="4383720"/>
              <a:ext cx="126720" cy="62280"/>
            </a:xfrm>
            <a:custGeom>
              <a:avLst/>
              <a:gdLst/>
              <a:ahLst/>
              <a:rect l="l" t="t" r="r" b="b"/>
              <a:pathLst>
                <a:path w="89" h="38">
                  <a:moveTo>
                    <a:pt x="88" y="0"/>
                  </a:moveTo>
                  <a:lnTo>
                    <a:pt x="5" y="2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65" y="37"/>
                  </a:lnTo>
                  <a:lnTo>
                    <a:pt x="88" y="0"/>
                  </a:lnTo>
                </a:path>
              </a:pathLst>
            </a:custGeom>
            <a:solidFill>
              <a:srgbClr val="00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0000" y="4356720"/>
              <a:ext cx="126720" cy="61920"/>
            </a:xfrm>
            <a:custGeom>
              <a:avLst/>
              <a:gdLst/>
              <a:ahLst/>
              <a:rect l="l" t="t" r="r" b="b"/>
              <a:pathLst>
                <a:path w="89" h="38">
                  <a:moveTo>
                    <a:pt x="88" y="0"/>
                  </a:moveTo>
                  <a:lnTo>
                    <a:pt x="5" y="2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65" y="37"/>
                  </a:lnTo>
                  <a:lnTo>
                    <a:pt x="88" y="0"/>
                  </a:lnTo>
                </a:path>
              </a:pathLst>
            </a:custGeom>
            <a:solidFill>
              <a:srgbClr val="006c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06640" y="4286880"/>
              <a:ext cx="79560" cy="7092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55" y="28"/>
                  </a:moveTo>
                  <a:lnTo>
                    <a:pt x="37" y="18"/>
                  </a:lnTo>
                  <a:lnTo>
                    <a:pt x="37" y="5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13" y="3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30"/>
                  </a:lnTo>
                  <a:lnTo>
                    <a:pt x="20" y="40"/>
                  </a:lnTo>
                  <a:lnTo>
                    <a:pt x="25" y="40"/>
                  </a:lnTo>
                  <a:lnTo>
                    <a:pt x="35" y="43"/>
                  </a:lnTo>
                  <a:lnTo>
                    <a:pt x="55" y="28"/>
                  </a:lnTo>
                </a:path>
              </a:pathLst>
            </a:custGeom>
            <a:solidFill>
              <a:srgbClr val="00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4840" y="2614680"/>
              <a:ext cx="1131480" cy="2489400"/>
            </a:xfrm>
            <a:prstGeom prst="rect">
              <a:avLst/>
            </a:prstGeom>
            <a:gradFill rotWithShape="0">
              <a:gsLst>
                <a:gs pos="0">
                  <a:srgbClr val="2a70cb"/>
                </a:gs>
                <a:gs pos="50000">
                  <a:srgbClr val="358dff"/>
                </a:gs>
                <a:gs pos="100000">
                  <a:srgbClr val="2a70cb"/>
                </a:gs>
              </a:gsLst>
              <a:lin ang="13500000"/>
            </a:gra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75800" y="5052960"/>
              <a:ext cx="0" cy="257040"/>
            </a:xfrm>
            <a:prstGeom prst="line">
              <a:avLst/>
            </a:prstGeom>
            <a:ln w="25560">
              <a:solidFill>
                <a:srgbClr val="4a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36040" y="3659760"/>
              <a:ext cx="133920" cy="1537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d019"/>
                </a:gs>
                <a:gs pos="100000">
                  <a:srgbClr val="ffcc00"/>
                </a:gs>
              </a:gsLst>
              <a:lin ang="13500000"/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dd01996_" descr=""/>
            <p:cNvPicPr/>
            <p:nvPr/>
          </p:nvPicPr>
          <p:blipFill>
            <a:blip r:embed="rId1"/>
            <a:stretch/>
          </p:blipFill>
          <p:spPr>
            <a:xfrm>
              <a:off x="6275880" y="3380760"/>
              <a:ext cx="851400" cy="8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32520" y="4356720"/>
              <a:ext cx="1216800" cy="208800"/>
            </a:xfrm>
            <a:custGeom>
              <a:avLst/>
              <a:gdLst/>
              <a:ahLst/>
              <a:rect l="l" t="t" r="r" b="b"/>
              <a:pathLst>
                <a:path w="652" h="99">
                  <a:moveTo>
                    <a:pt x="0" y="98"/>
                  </a:moveTo>
                  <a:lnTo>
                    <a:pt x="547" y="98"/>
                  </a:lnTo>
                  <a:lnTo>
                    <a:pt x="651" y="0"/>
                  </a:lnTo>
                  <a:lnTo>
                    <a:pt x="104" y="1"/>
                  </a:lnTo>
                  <a:lnTo>
                    <a:pt x="0" y="98"/>
                  </a:lnTo>
                </a:path>
              </a:pathLst>
            </a:custGeom>
            <a:gradFill rotWithShape="0">
              <a:gsLst>
                <a:gs pos="0">
                  <a:srgbClr val="686868"/>
                </a:gs>
                <a:gs pos="100000">
                  <a:srgbClr val="96969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6154200" y="3589920"/>
              <a:ext cx="1033920" cy="8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275880" y="372960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286000" y="3352680"/>
            <a:ext cx="1371600" cy="79056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180360 h 790560"/>
              <a:gd name="textAreaBottom" fmla="*/ 610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tRanger" descr=""/>
          <p:cNvPicPr/>
          <p:nvPr/>
        </p:nvPicPr>
        <p:blipFill>
          <a:blip r:embed="rId3"/>
          <a:stretch/>
        </p:blipFill>
        <p:spPr>
          <a:xfrm>
            <a:off x="2514600" y="3429000"/>
            <a:ext cx="760320" cy="433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895480" y="3809880"/>
            <a:ext cx="0" cy="60984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419720"/>
            <a:ext cx="2210040" cy="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1463760" cy="162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981080"/>
                    <a:ext cx="146376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1981080" y="4267080"/>
            <a:ext cx="1478160" cy="898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1487400">
            <a:off x="1143000" y="388620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8520" y="365760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Alert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391520" y="2133720"/>
            <a:ext cx="1752480" cy="2461680"/>
            <a:chOff x="7391520" y="2133720"/>
            <a:chExt cx="1752480" cy="2461680"/>
          </a:xfrm>
        </p:grpSpPr>
        <p:sp>
          <p:nvSpPr>
            <p:cNvPr id="404" name=""/>
            <p:cNvSpPr/>
            <p:nvPr/>
          </p:nvSpPr>
          <p:spPr>
            <a:xfrm>
              <a:off x="7391520" y="3809880"/>
              <a:ext cx="1752480" cy="785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Univers 45 Light"/>
                </a:rPr>
                <a:t>Gone 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Univers 45 Light"/>
                </a:rPr>
                <a:t>Back Mon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1520" y="3048120"/>
              <a:ext cx="83808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29600" y="3048120"/>
              <a:ext cx="91440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01000" y="2133720"/>
              <a:ext cx="304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800" spc="-1" strike="noStrike">
                  <a:solidFill>
                    <a:srgbClr val="000000"/>
                  </a:solidFill>
                  <a:latin typeface="Univers 45 Light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ncomplete monitoring window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55555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A hackers window of opportunity </a:t>
            </a: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s 24 hour, 7 days a week</a:t>
            </a: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Internet is open 24hrs/day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ncomplete monitoring window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15200" y="5257800"/>
            <a:ext cx="1611000" cy="1294920"/>
            <a:chOff x="7315200" y="5257800"/>
            <a:chExt cx="1611000" cy="1294920"/>
          </a:xfrm>
        </p:grpSpPr>
        <p:sp>
          <p:nvSpPr>
            <p:cNvPr id="412" name=""/>
            <p:cNvSpPr/>
            <p:nvPr/>
          </p:nvSpPr>
          <p:spPr>
            <a:xfrm>
              <a:off x="7572960" y="5938920"/>
              <a:ext cx="1353240" cy="61380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63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70440" y="5955840"/>
              <a:ext cx="1313280" cy="58572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8400" y="5998680"/>
              <a:ext cx="370800" cy="2073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01560" y="6214320"/>
              <a:ext cx="0" cy="2048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7993080" y="5941440"/>
            <a:ext cx="265680" cy="4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93080" y="5941440"/>
                      <a:ext cx="2656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"/>
            <p:cNvGraphicFramePr/>
            <p:nvPr/>
          </p:nvGraphicFramePr>
          <p:xfrm>
            <a:off x="7315200" y="5257800"/>
            <a:ext cx="526320" cy="69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5257800"/>
                      <a:ext cx="5263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Choose one or more of the following: 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Develop a 24x7 security function – will take 4-6 full time equivalent staff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ntegrate IDS with Enterprise Management Consoles like Tivoli, HP-Openview or Ca-Unicenter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Use a  Managed service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Incomplete monitoring window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7559640" y="4952880"/>
          <a:ext cx="136224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9640" y="4952880"/>
                    <a:ext cx="13622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Why IDS - Reasons for IDS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 55"/>
              </a:rPr>
              <a:t>Or why do I want to buy one </a:t>
            </a:r>
            <a:endParaRPr b="0" lang="en-US" sz="24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Top-five flaws in Intrusion detection 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 55"/>
              </a:rPr>
              <a:t>Or why does it go beep all day and all night but miss the attack when our website got violated</a:t>
            </a:r>
            <a:endParaRPr b="0" lang="en-US" sz="2400" spc="-1" strike="noStrike">
              <a:solidFill>
                <a:srgbClr val="000000"/>
              </a:solidFill>
              <a:latin typeface="Univers 55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3627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81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198108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SY00417_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6576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762120" y="4495680"/>
            <a:ext cx="4266720" cy="1190880"/>
            <a:chOff x="762120" y="4495680"/>
            <a:chExt cx="4266720" cy="1190880"/>
          </a:xfrm>
        </p:grpSpPr>
        <p:sp>
          <p:nvSpPr>
            <p:cNvPr id="429" name=""/>
            <p:cNvSpPr/>
            <p:nvPr/>
          </p:nvSpPr>
          <p:spPr>
            <a:xfrm>
              <a:off x="2178360" y="5100840"/>
              <a:ext cx="28504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1"/>
            <a:stretch/>
          </p:blipFill>
          <p:spPr>
            <a:xfrm>
              <a:off x="762120" y="4495680"/>
              <a:ext cx="1753200" cy="119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352680" y="4876920"/>
            <a:ext cx="660600" cy="53028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7010280" y="4343400"/>
            <a:ext cx="250560" cy="246240"/>
            <a:chOff x="7010280" y="4343400"/>
            <a:chExt cx="250560" cy="246240"/>
          </a:xfrm>
        </p:grpSpPr>
        <p:sp>
          <p:nvSpPr>
            <p:cNvPr id="433" name=""/>
            <p:cNvSpPr/>
            <p:nvPr/>
          </p:nvSpPr>
          <p:spPr>
            <a:xfrm>
              <a:off x="7044840" y="4492800"/>
              <a:ext cx="216000" cy="2628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0" y="20"/>
                  </a:moveTo>
                  <a:lnTo>
                    <a:pt x="20" y="0"/>
                  </a:lnTo>
                  <a:lnTo>
                    <a:pt x="161" y="0"/>
                  </a:lnTo>
                  <a:lnTo>
                    <a:pt x="143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44840" y="4492800"/>
              <a:ext cx="216000" cy="2628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0" y="20"/>
                  </a:moveTo>
                  <a:lnTo>
                    <a:pt x="20" y="0"/>
                  </a:lnTo>
                  <a:lnTo>
                    <a:pt x="161" y="0"/>
                  </a:lnTo>
                  <a:lnTo>
                    <a:pt x="143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44840" y="4519080"/>
              <a:ext cx="191880" cy="31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46280" y="4520880"/>
              <a:ext cx="189000" cy="2880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7080" y="4492800"/>
              <a:ext cx="23760" cy="579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44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7080" y="4492800"/>
              <a:ext cx="23760" cy="579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44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492800"/>
              <a:ext cx="205560" cy="1980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15"/>
                  </a:moveTo>
                  <a:lnTo>
                    <a:pt x="15" y="0"/>
                  </a:lnTo>
                  <a:lnTo>
                    <a:pt x="153" y="0"/>
                  </a:lnTo>
                  <a:lnTo>
                    <a:pt x="14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51680" y="4492800"/>
              <a:ext cx="205560" cy="1980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15"/>
                  </a:moveTo>
                  <a:lnTo>
                    <a:pt x="15" y="0"/>
                  </a:lnTo>
                  <a:lnTo>
                    <a:pt x="153" y="0"/>
                  </a:lnTo>
                  <a:lnTo>
                    <a:pt x="14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47720" y="4343400"/>
              <a:ext cx="209520" cy="19800"/>
            </a:xfrm>
            <a:custGeom>
              <a:avLst/>
              <a:gdLst/>
              <a:ahLst/>
              <a:rect l="l" t="t" r="r" b="b"/>
              <a:pathLst>
                <a:path w="156" h="15">
                  <a:moveTo>
                    <a:pt x="0" y="15"/>
                  </a:moveTo>
                  <a:lnTo>
                    <a:pt x="14" y="0"/>
                  </a:lnTo>
                  <a:lnTo>
                    <a:pt x="156" y="0"/>
                  </a:lnTo>
                  <a:lnTo>
                    <a:pt x="14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47720" y="4343400"/>
              <a:ext cx="209520" cy="19800"/>
            </a:xfrm>
            <a:custGeom>
              <a:avLst/>
              <a:gdLst/>
              <a:ahLst/>
              <a:rect l="l" t="t" r="r" b="b"/>
              <a:pathLst>
                <a:path w="156" h="15">
                  <a:moveTo>
                    <a:pt x="0" y="15"/>
                  </a:moveTo>
                  <a:lnTo>
                    <a:pt x="14" y="0"/>
                  </a:lnTo>
                  <a:lnTo>
                    <a:pt x="156" y="0"/>
                  </a:lnTo>
                  <a:lnTo>
                    <a:pt x="14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48800" y="4364280"/>
              <a:ext cx="189360" cy="14436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65000" y="4383000"/>
              <a:ext cx="155880" cy="111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7080" y="4343400"/>
              <a:ext cx="19800" cy="164160"/>
            </a:xfrm>
            <a:custGeom>
              <a:avLst/>
              <a:gdLst/>
              <a:ahLst/>
              <a:rect l="l" t="t" r="r" b="b"/>
              <a:pathLst>
                <a:path w="15" h="124">
                  <a:moveTo>
                    <a:pt x="0" y="124"/>
                  </a:moveTo>
                  <a:lnTo>
                    <a:pt x="15" y="11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7080" y="4343400"/>
              <a:ext cx="19800" cy="164160"/>
            </a:xfrm>
            <a:custGeom>
              <a:avLst/>
              <a:gdLst/>
              <a:ahLst/>
              <a:rect l="l" t="t" r="r" b="b"/>
              <a:pathLst>
                <a:path w="15" h="124">
                  <a:moveTo>
                    <a:pt x="0" y="124"/>
                  </a:moveTo>
                  <a:lnTo>
                    <a:pt x="15" y="11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4544640"/>
              <a:ext cx="234720" cy="356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0" y="27"/>
                  </a:moveTo>
                  <a:lnTo>
                    <a:pt x="22" y="0"/>
                  </a:lnTo>
                  <a:lnTo>
                    <a:pt x="175" y="0"/>
                  </a:lnTo>
                  <a:lnTo>
                    <a:pt x="15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10280" y="4544640"/>
              <a:ext cx="234720" cy="356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0" y="27"/>
                  </a:moveTo>
                  <a:lnTo>
                    <a:pt x="22" y="0"/>
                  </a:lnTo>
                  <a:lnTo>
                    <a:pt x="175" y="0"/>
                  </a:lnTo>
                  <a:lnTo>
                    <a:pt x="15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15480" y="4544640"/>
              <a:ext cx="29520" cy="45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lnTo>
                    <a:pt x="22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15480" y="4544640"/>
              <a:ext cx="29520" cy="45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lnTo>
                    <a:pt x="22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10280" y="4580280"/>
              <a:ext cx="205200" cy="90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11360" y="4581720"/>
              <a:ext cx="202680" cy="648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029200" y="5105520"/>
            <a:ext cx="2209680" cy="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800600"/>
            <a:ext cx="91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4495680"/>
            <a:ext cx="0" cy="60984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NetRanger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7603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6934320" y="4572000"/>
          <a:ext cx="62532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4572000"/>
                    <a:ext cx="62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1752480" y="5334120"/>
            <a:ext cx="5486400" cy="609480"/>
          </a:xfrm>
          <a:prstGeom prst="rightArrow">
            <a:avLst>
              <a:gd name="adj1" fmla="val 50000"/>
              <a:gd name="adj2" fmla="val 225044"/>
            </a:avLst>
          </a:prstGeom>
          <a:gradFill rotWithShape="0">
            <a:gsLst>
              <a:gs pos="0">
                <a:srgbClr val="000000"/>
              </a:gs>
              <a:gs pos="50000">
                <a:srgbClr val="9a9a9a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Unicode hack @ port 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2286000" y="3124080"/>
            <a:ext cx="1447920" cy="12067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343400" y="3962520"/>
            <a:ext cx="1371600" cy="79056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180360 h 790560"/>
              <a:gd name="textAreaBottom" fmla="*/ 610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3429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Alert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580920" y="3886200"/>
            <a:ext cx="114300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Hiding the attacks with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encryption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58680" y="1905120"/>
            <a:ext cx="3147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Withou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3505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37339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2743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IDS cons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45440" cy="8380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lvl="1" marL="857160" indent="0">
              <a:lnSpc>
                <a:spcPct val="105000"/>
              </a:lnSpc>
              <a:spcBef>
                <a:spcPts val="41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 55"/>
              </a:rPr>
              <a:t>Encryption envelope hides the attack from a network based IDS </a:t>
            </a:r>
            <a:endParaRPr b="0" lang="en-US" sz="2200" spc="-1" strike="noStrike">
              <a:solidFill>
                <a:srgbClr val="000000"/>
              </a:solidFill>
              <a:latin typeface="Univers 55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62120" y="4267080"/>
            <a:ext cx="4266720" cy="1190880"/>
            <a:chOff x="762120" y="4267080"/>
            <a:chExt cx="4266720" cy="1190880"/>
          </a:xfrm>
        </p:grpSpPr>
        <p:sp>
          <p:nvSpPr>
            <p:cNvPr id="471" name=""/>
            <p:cNvSpPr/>
            <p:nvPr/>
          </p:nvSpPr>
          <p:spPr>
            <a:xfrm>
              <a:off x="2178360" y="4872240"/>
              <a:ext cx="285048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1"/>
            <a:stretch/>
          </p:blipFill>
          <p:spPr>
            <a:xfrm>
              <a:off x="762120" y="4267080"/>
              <a:ext cx="1753200" cy="119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429000" y="4648320"/>
            <a:ext cx="660240" cy="5302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7010280" y="3962520"/>
            <a:ext cx="250560" cy="245520"/>
            <a:chOff x="7010280" y="3962520"/>
            <a:chExt cx="250560" cy="245520"/>
          </a:xfrm>
        </p:grpSpPr>
        <p:sp>
          <p:nvSpPr>
            <p:cNvPr id="475" name=""/>
            <p:cNvSpPr/>
            <p:nvPr/>
          </p:nvSpPr>
          <p:spPr>
            <a:xfrm>
              <a:off x="7044840" y="4111560"/>
              <a:ext cx="216000" cy="2628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0" y="20"/>
                  </a:moveTo>
                  <a:lnTo>
                    <a:pt x="20" y="0"/>
                  </a:lnTo>
                  <a:lnTo>
                    <a:pt x="161" y="0"/>
                  </a:lnTo>
                  <a:lnTo>
                    <a:pt x="143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44840" y="4111560"/>
              <a:ext cx="216000" cy="26280"/>
            </a:xfrm>
            <a:custGeom>
              <a:avLst/>
              <a:gdLst/>
              <a:ahLst/>
              <a:rect l="l" t="t" r="r" b="b"/>
              <a:pathLst>
                <a:path w="161" h="20">
                  <a:moveTo>
                    <a:pt x="0" y="20"/>
                  </a:moveTo>
                  <a:lnTo>
                    <a:pt x="20" y="0"/>
                  </a:lnTo>
                  <a:lnTo>
                    <a:pt x="161" y="0"/>
                  </a:lnTo>
                  <a:lnTo>
                    <a:pt x="143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44840" y="4138200"/>
              <a:ext cx="191880" cy="3168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46280" y="4139640"/>
              <a:ext cx="189000" cy="2880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7080" y="4111560"/>
              <a:ext cx="23760" cy="579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44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080" y="4111560"/>
              <a:ext cx="23760" cy="579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44"/>
                  </a:moveTo>
                  <a:lnTo>
                    <a:pt x="18" y="26"/>
                  </a:lnTo>
                  <a:lnTo>
                    <a:pt x="18" y="0"/>
                  </a:lnTo>
                  <a:lnTo>
                    <a:pt x="0" y="2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51680" y="4111560"/>
              <a:ext cx="205560" cy="1944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15"/>
                  </a:moveTo>
                  <a:lnTo>
                    <a:pt x="15" y="0"/>
                  </a:lnTo>
                  <a:lnTo>
                    <a:pt x="153" y="0"/>
                  </a:lnTo>
                  <a:lnTo>
                    <a:pt x="14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51680" y="4111560"/>
              <a:ext cx="205560" cy="1944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15"/>
                  </a:moveTo>
                  <a:lnTo>
                    <a:pt x="15" y="0"/>
                  </a:lnTo>
                  <a:lnTo>
                    <a:pt x="153" y="0"/>
                  </a:lnTo>
                  <a:lnTo>
                    <a:pt x="14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47720" y="3962520"/>
              <a:ext cx="209520" cy="19440"/>
            </a:xfrm>
            <a:custGeom>
              <a:avLst/>
              <a:gdLst/>
              <a:ahLst/>
              <a:rect l="l" t="t" r="r" b="b"/>
              <a:pathLst>
                <a:path w="156" h="15">
                  <a:moveTo>
                    <a:pt x="0" y="15"/>
                  </a:moveTo>
                  <a:lnTo>
                    <a:pt x="14" y="0"/>
                  </a:lnTo>
                  <a:lnTo>
                    <a:pt x="156" y="0"/>
                  </a:lnTo>
                  <a:lnTo>
                    <a:pt x="14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47720" y="3962520"/>
              <a:ext cx="209520" cy="19440"/>
            </a:xfrm>
            <a:custGeom>
              <a:avLst/>
              <a:gdLst/>
              <a:ahLst/>
              <a:rect l="l" t="t" r="r" b="b"/>
              <a:pathLst>
                <a:path w="156" h="15">
                  <a:moveTo>
                    <a:pt x="0" y="15"/>
                  </a:moveTo>
                  <a:lnTo>
                    <a:pt x="14" y="0"/>
                  </a:lnTo>
                  <a:lnTo>
                    <a:pt x="156" y="0"/>
                  </a:lnTo>
                  <a:lnTo>
                    <a:pt x="141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48800" y="3983400"/>
              <a:ext cx="189360" cy="14400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65000" y="4001760"/>
              <a:ext cx="155880" cy="111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37080" y="3962520"/>
              <a:ext cx="19800" cy="163800"/>
            </a:xfrm>
            <a:custGeom>
              <a:avLst/>
              <a:gdLst/>
              <a:ahLst/>
              <a:rect l="l" t="t" r="r" b="b"/>
              <a:pathLst>
                <a:path w="15" h="124">
                  <a:moveTo>
                    <a:pt x="0" y="124"/>
                  </a:moveTo>
                  <a:lnTo>
                    <a:pt x="15" y="11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37080" y="3962520"/>
              <a:ext cx="19800" cy="163800"/>
            </a:xfrm>
            <a:custGeom>
              <a:avLst/>
              <a:gdLst/>
              <a:ahLst/>
              <a:rect l="l" t="t" r="r" b="b"/>
              <a:pathLst>
                <a:path w="15" h="124">
                  <a:moveTo>
                    <a:pt x="0" y="124"/>
                  </a:moveTo>
                  <a:lnTo>
                    <a:pt x="15" y="11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10280" y="4163400"/>
              <a:ext cx="234720" cy="356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0" y="27"/>
                  </a:moveTo>
                  <a:lnTo>
                    <a:pt x="22" y="0"/>
                  </a:lnTo>
                  <a:lnTo>
                    <a:pt x="175" y="0"/>
                  </a:lnTo>
                  <a:lnTo>
                    <a:pt x="15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10280" y="4163400"/>
              <a:ext cx="234720" cy="356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0" y="27"/>
                  </a:moveTo>
                  <a:lnTo>
                    <a:pt x="22" y="0"/>
                  </a:lnTo>
                  <a:lnTo>
                    <a:pt x="175" y="0"/>
                  </a:lnTo>
                  <a:lnTo>
                    <a:pt x="15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9c9b6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15480" y="4163400"/>
              <a:ext cx="29520" cy="446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lnTo>
                    <a:pt x="22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15480" y="4163400"/>
              <a:ext cx="29520" cy="446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34"/>
                  </a:moveTo>
                  <a:lnTo>
                    <a:pt x="22" y="12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7a7a5a"/>
            </a:solidFill>
            <a:ln w="32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10280" y="4199040"/>
              <a:ext cx="205200" cy="90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11360" y="4200480"/>
              <a:ext cx="202680" cy="6480"/>
            </a:xfrm>
            <a:prstGeom prst="rect">
              <a:avLst/>
            </a:prstGeom>
            <a:solidFill>
              <a:srgbClr val="b7b79d"/>
            </a:solidFill>
            <a:ln w="32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952880" y="4876920"/>
            <a:ext cx="2210040" cy="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4800600"/>
            <a:ext cx="91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4267080"/>
            <a:ext cx="0" cy="609840"/>
          </a:xfrm>
          <a:prstGeom prst="line">
            <a:avLst/>
          </a:prstGeom>
          <a:ln w="57240">
            <a:solidFill>
              <a:srgbClr val="cb33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NetRanger" descr=""/>
          <p:cNvPicPr/>
          <p:nvPr/>
        </p:nvPicPr>
        <p:blipFill>
          <a:blip r:embed="rId3"/>
          <a:stretch/>
        </p:blipFill>
        <p:spPr>
          <a:xfrm>
            <a:off x="4648320" y="3809880"/>
            <a:ext cx="760320" cy="4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"/>
          <p:cNvGraphicFramePr/>
          <p:nvPr/>
        </p:nvGraphicFramePr>
        <p:xfrm>
          <a:off x="6934320" y="4343400"/>
          <a:ext cx="62532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4343400"/>
                    <a:ext cx="62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685800" y="297180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 flipH="1" flipV="1">
            <a:off x="457200" y="2895120"/>
            <a:ext cx="228600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0880" y="2895480"/>
            <a:ext cx="1828800" cy="1371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600200" y="4800600"/>
            <a:ext cx="6019920" cy="2362320"/>
            <a:chOff x="1600200" y="4800600"/>
            <a:chExt cx="6019920" cy="2362320"/>
          </a:xfrm>
        </p:grpSpPr>
        <p:sp>
          <p:nvSpPr>
            <p:cNvPr id="505" name=""/>
            <p:cNvSpPr/>
            <p:nvPr/>
          </p:nvSpPr>
          <p:spPr>
            <a:xfrm>
              <a:off x="1600200" y="4800600"/>
              <a:ext cx="6019920" cy="2362320"/>
            </a:xfrm>
            <a:prstGeom prst="rightArrow">
              <a:avLst>
                <a:gd name="adj1" fmla="val 50000"/>
                <a:gd name="adj2" fmla="val 6370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Univers 45 Light"/>
                </a:rPr>
                <a:t>SSL 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Univers 45 Light"/>
                </a:rPr>
                <a:t>SSL 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33720" y="5638680"/>
              <a:ext cx="5486400" cy="609840"/>
            </a:xfrm>
            <a:prstGeom prst="rightArrow">
              <a:avLst>
                <a:gd name="adj1" fmla="val 50000"/>
                <a:gd name="adj2" fmla="val 224911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a9a9a"/>
                </a:gs>
                <a:gs pos="100000">
                  <a:srgbClr val="0000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Univers 45 Light"/>
                </a:rPr>
                <a:t>Unicode hack @ SSL port 44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Hiding the attacks with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encryption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38880" y="3352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3352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8120" y="4343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Univers 45 Light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2743200"/>
            <a:ext cx="2971800" cy="533520"/>
          </a:xfrm>
          <a:prstGeom prst="wedgeEllipseCallout">
            <a:avLst>
              <a:gd name="adj1" fmla="val -60416"/>
              <a:gd name="adj2" fmla="val 8839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 45 Light"/>
              </a:rPr>
              <a:t>See nothing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Choose one or more of the following: 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Use a Hybrid or Server IDS with Web Server plug-in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Use an SSL accelerator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90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nivers 45 Light"/>
              </a:rPr>
              <a:t>Use a host-based IDS with Web Server plug-in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Hiding the attacks with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encryption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59640" y="4952880"/>
          <a:ext cx="136224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9640" y="4952880"/>
                    <a:ext cx="13622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3627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81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518" name="SY00416_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6576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1066680"/>
          <a:ext cx="22096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22096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676160" y="1295280"/>
            <a:ext cx="5638680" cy="3975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One size doesn’t fit all…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105000"/>
              </a:lnSpc>
              <a:spcBef>
                <a:spcPts val="41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 55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DS can’t help your organisation if they haven’t been tailored to match your infrastructure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105000"/>
              </a:lnSpc>
              <a:spcBef>
                <a:spcPts val="41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0" lang="en-US" sz="2200" spc="-1" strike="noStrike">
              <a:solidFill>
                <a:srgbClr val="000000"/>
              </a:solidFill>
              <a:latin typeface="Univers 55"/>
            </a:endParaRPr>
          </a:p>
          <a:p>
            <a:pPr lvl="1" marL="857160" indent="0">
              <a:lnSpc>
                <a:spcPct val="105000"/>
              </a:lnSpc>
              <a:spcBef>
                <a:spcPts val="41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 55"/>
              </a:rPr>
              <a:t>AND YOUR APPLICATIONS</a:t>
            </a:r>
            <a:endParaRPr b="0" lang="en-US" sz="2200" spc="-1" strike="noStrike">
              <a:solidFill>
                <a:srgbClr val="000000"/>
              </a:solidFill>
              <a:latin typeface="Univers 55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7315200" y="1676520"/>
          <a:ext cx="892080" cy="33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676520"/>
                    <a:ext cx="892080" cy="33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086600" y="3276720"/>
          <a:ext cx="127620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3276720"/>
                    <a:ext cx="12762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962520" y="5181480"/>
          <a:ext cx="12762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181480"/>
                    <a:ext cx="1276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 rot="1487400">
            <a:off x="2286000" y="57913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0131800">
            <a:off x="5475240" y="49813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customising your deployment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315200" y="5257800"/>
            <a:ext cx="1611000" cy="1294920"/>
            <a:chOff x="7315200" y="5257800"/>
            <a:chExt cx="1611000" cy="1294920"/>
          </a:xfrm>
        </p:grpSpPr>
        <p:sp>
          <p:nvSpPr>
            <p:cNvPr id="532" name=""/>
            <p:cNvSpPr/>
            <p:nvPr/>
          </p:nvSpPr>
          <p:spPr>
            <a:xfrm>
              <a:off x="7572960" y="5938920"/>
              <a:ext cx="1353240" cy="61380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63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70440" y="5955840"/>
              <a:ext cx="1313280" cy="58572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28400" y="5998680"/>
              <a:ext cx="370800" cy="2073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701560" y="6214320"/>
              <a:ext cx="0" cy="2048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6" name=""/>
            <p:cNvGraphicFramePr/>
            <p:nvPr/>
          </p:nvGraphicFramePr>
          <p:xfrm>
            <a:off x="7993080" y="5941440"/>
            <a:ext cx="265680" cy="410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93080" y="5941440"/>
                      <a:ext cx="2656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"/>
            <p:cNvGraphicFramePr/>
            <p:nvPr/>
          </p:nvGraphicFramePr>
          <p:xfrm>
            <a:off x="7315200" y="5257800"/>
            <a:ext cx="526320" cy="69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15200" y="5257800"/>
                      <a:ext cx="5263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97000"/>
          </a:bodyPr>
          <a:p>
            <a:pPr marL="369360" indent="-36936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Most commercial IDS use signature pattern recogni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69360" indent="-36936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gnatures are specific to a particular attack , have to be created after it is discovered AND cannot detect many breaches caused by bad application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69360" indent="-36936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Anomalous traffic detection can detect this, is supported by most IDS and will significantly increase the effectiveness of your monitoring regim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6936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Univers 45 Light"/>
              </a:rPr>
              <a:t>But this is not encouraged by some vendors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693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Univers 45 Light"/>
              </a:rPr>
              <a:t>They </a:t>
            </a:r>
            <a:r>
              <a:rPr b="1" lang="en-US" sz="1800" spc="-1" strike="noStrike">
                <a:solidFill>
                  <a:srgbClr val="000000"/>
                </a:solidFill>
                <a:latin typeface="Univers 45 Light"/>
              </a:rPr>
              <a:t>suggest that it will increase Admin overhead, prevent timely upgrade and prevent product alignment with Virus Scanners.</a:t>
            </a:r>
            <a:endParaRPr b="1" lang="en-US" sz="1800" spc="-1" strike="noStrike">
              <a:solidFill>
                <a:srgbClr val="000000"/>
              </a:solidFill>
              <a:latin typeface="Univers 45 Light"/>
            </a:endParaRPr>
          </a:p>
          <a:p>
            <a:pPr marL="3693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18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315200" y="5257800"/>
            <a:ext cx="1611000" cy="1294920"/>
            <a:chOff x="7315200" y="5257800"/>
            <a:chExt cx="1611000" cy="1294920"/>
          </a:xfrm>
        </p:grpSpPr>
        <p:sp>
          <p:nvSpPr>
            <p:cNvPr id="542" name=""/>
            <p:cNvSpPr/>
            <p:nvPr/>
          </p:nvSpPr>
          <p:spPr>
            <a:xfrm>
              <a:off x="7572960" y="5938920"/>
              <a:ext cx="1353240" cy="61380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635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0440" y="5955840"/>
              <a:ext cx="1313280" cy="585720"/>
            </a:xfrm>
            <a:custGeom>
              <a:avLst/>
              <a:gdLst/>
              <a:ahLst/>
              <a:rect l="l" t="t" r="r" b="b"/>
              <a:pathLst>
                <a:path w="3231" h="1728">
                  <a:moveTo>
                    <a:pt x="41" y="0"/>
                  </a:moveTo>
                  <a:cubicBezTo>
                    <a:pt x="0" y="40"/>
                    <a:pt x="27" y="51"/>
                    <a:pt x="41" y="99"/>
                  </a:cubicBezTo>
                  <a:cubicBezTo>
                    <a:pt x="57" y="155"/>
                    <a:pt x="74" y="208"/>
                    <a:pt x="85" y="265"/>
                  </a:cubicBezTo>
                  <a:cubicBezTo>
                    <a:pt x="89" y="302"/>
                    <a:pt x="93" y="339"/>
                    <a:pt x="96" y="376"/>
                  </a:cubicBezTo>
                  <a:cubicBezTo>
                    <a:pt x="101" y="435"/>
                    <a:pt x="102" y="494"/>
                    <a:pt x="107" y="553"/>
                  </a:cubicBezTo>
                  <a:cubicBezTo>
                    <a:pt x="120" y="698"/>
                    <a:pt x="161" y="844"/>
                    <a:pt x="196" y="985"/>
                  </a:cubicBezTo>
                  <a:cubicBezTo>
                    <a:pt x="210" y="1042"/>
                    <a:pt x="211" y="1111"/>
                    <a:pt x="240" y="1163"/>
                  </a:cubicBezTo>
                  <a:cubicBezTo>
                    <a:pt x="337" y="1339"/>
                    <a:pt x="482" y="1482"/>
                    <a:pt x="661" y="1572"/>
                  </a:cubicBezTo>
                  <a:cubicBezTo>
                    <a:pt x="703" y="1616"/>
                    <a:pt x="662" y="1579"/>
                    <a:pt x="738" y="1617"/>
                  </a:cubicBezTo>
                  <a:cubicBezTo>
                    <a:pt x="855" y="1675"/>
                    <a:pt x="974" y="1702"/>
                    <a:pt x="1104" y="1716"/>
                  </a:cubicBezTo>
                  <a:cubicBezTo>
                    <a:pt x="1314" y="1690"/>
                    <a:pt x="1525" y="1705"/>
                    <a:pt x="1735" y="1728"/>
                  </a:cubicBezTo>
                  <a:cubicBezTo>
                    <a:pt x="2123" y="1720"/>
                    <a:pt x="2510" y="1716"/>
                    <a:pt x="2898" y="1705"/>
                  </a:cubicBezTo>
                  <a:cubicBezTo>
                    <a:pt x="3010" y="1702"/>
                    <a:pt x="3119" y="1683"/>
                    <a:pt x="3231" y="1683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528400" y="5998680"/>
              <a:ext cx="370800" cy="2073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Jo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 </a:t>
              </a:r>
              <a:r>
                <a:rPr b="1" lang="en-GB" sz="500" spc="-1" strike="noStrike">
                  <a:solidFill>
                    <a:srgbClr val="000000"/>
                  </a:solidFill>
                  <a:latin typeface="Univers 45 Light"/>
                </a:rPr>
                <a:t>Centr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701560" y="6214320"/>
              <a:ext cx="0" cy="2048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7993080" y="5941440"/>
            <a:ext cx="265680" cy="41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93080" y="5941440"/>
                      <a:ext cx="2656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"/>
            <p:cNvGraphicFramePr/>
            <p:nvPr/>
          </p:nvGraphicFramePr>
          <p:xfrm>
            <a:off x="7315200" y="5257800"/>
            <a:ext cx="526320" cy="69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5257800"/>
                      <a:ext cx="5263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0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customising your deployment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o add suitable anomalous traffic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fine traffic that might be indication of a hack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374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Good examples inclu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1333440" indent="-285840">
              <a:lnSpc>
                <a:spcPct val="105000"/>
              </a:lnSpc>
              <a:spcBef>
                <a:spcPts val="337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55"/>
              </a:rPr>
              <a:t>Telnet from inside DMZ back into the Internal Net</a:t>
            </a:r>
            <a:endParaRPr b="0" lang="en-US" sz="1800" spc="-1" strike="noStrike">
              <a:solidFill>
                <a:srgbClr val="000000"/>
              </a:solidFill>
              <a:latin typeface="Univers 55"/>
            </a:endParaRPr>
          </a:p>
          <a:p>
            <a:pPr lvl="2" marL="1333440" indent="-285840">
              <a:lnSpc>
                <a:spcPct val="105000"/>
              </a:lnSpc>
              <a:spcBef>
                <a:spcPts val="337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55"/>
              </a:rPr>
              <a:t>TFTP from Web server out to the internet</a:t>
            </a:r>
            <a:endParaRPr b="0" lang="en-US" sz="1800" spc="-1" strike="noStrike">
              <a:solidFill>
                <a:srgbClr val="000000"/>
              </a:solidFill>
              <a:latin typeface="Univers 55"/>
            </a:endParaRPr>
          </a:p>
          <a:p>
            <a:pPr lvl="2" marL="1333440" indent="-285840">
              <a:lnSpc>
                <a:spcPct val="105000"/>
              </a:lnSpc>
              <a:spcBef>
                <a:spcPts val="337"/>
              </a:spcBef>
              <a:buClr>
                <a:srgbClr val="000000"/>
              </a:buClr>
              <a:buFont typeface="Univers 55"/>
              <a:buChar char="-"/>
              <a:tabLst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55"/>
              </a:rPr>
              <a:t>Web Browsing from the Firewall</a:t>
            </a:r>
            <a:endParaRPr b="0" lang="en-US" sz="18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fine connection rules based on thi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t is also a good idea to tailor the priority level of events to match you incident policy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7924680" y="5181480"/>
          <a:ext cx="9813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181480"/>
                    <a:ext cx="9813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customising your deployment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7924680" y="5181480"/>
          <a:ext cx="9813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181480"/>
                    <a:ext cx="9813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customising your deployment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The solution – An example in sn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1828800"/>
            <a:ext cx="7619760" cy="3886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# /var/snort/snort.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Var DMZ  192.168.1.0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Var MY_NET 10.1.1.0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# Telnet from inside DMZ back into the Internal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Alert tcp $DMZ any -&gt; $MY_NET 23  (msg: “Suspicious telnet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# TFTP from DMZ out to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55"/>
              </a:rPr>
              <a:t>Alert UDP  $DMZ any -&gt; ! $MY_NET 69  (msg: “Suspicious TFTP 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95120" y="1447560"/>
            <a:ext cx="31705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70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561" name="SY00415_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Why start an IDS project 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Reasons for IDS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95000"/>
              </a:lnSpc>
              <a:spcBef>
                <a:spcPts val="82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ume of attacks drastically increased </a:t>
            </a:r>
            <a:endParaRPr b="1" lang="en-US" sz="22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 “cost” of reviewing logs too great</a:t>
            </a:r>
            <a:endParaRPr b="0" lang="en-US" sz="28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-380880">
              <a:lnSpc>
                <a:spcPct val="95000"/>
              </a:lnSpc>
              <a:spcBef>
                <a:spcPts val="82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f attacks changed</a:t>
            </a:r>
            <a:endParaRPr b="1" lang="en-US" sz="22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 Firewalls not up to it, need more</a:t>
            </a:r>
            <a:endParaRPr b="0" lang="en-US" sz="28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-380880">
              <a:lnSpc>
                <a:spcPct val="95000"/>
              </a:lnSpc>
              <a:spcBef>
                <a:spcPts val="82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ce of Brand image</a:t>
            </a:r>
            <a:endParaRPr b="1" lang="en-US" sz="22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 Minimise the effect of Hacking</a:t>
            </a:r>
            <a:endParaRPr b="0" lang="en-US" sz="28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-380880">
              <a:lnSpc>
                <a:spcPct val="95000"/>
              </a:lnSpc>
              <a:spcBef>
                <a:spcPts val="825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ory requirement</a:t>
            </a:r>
            <a:endParaRPr b="1" lang="en-US" sz="2200" spc="-1" strike="noStrike">
              <a:solidFill>
                <a:srgbClr val="000000"/>
              </a:solidFill>
              <a:latin typeface="Univers 45 Light"/>
            </a:endParaRPr>
          </a:p>
          <a:p>
            <a:pPr lvl="1" marL="85716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 If I have to, I have to</a:t>
            </a:r>
            <a:endParaRPr b="0" lang="en-US" sz="2800" spc="-1" strike="noStrike">
              <a:solidFill>
                <a:srgbClr val="000000"/>
              </a:solidFill>
              <a:latin typeface="Univers 55"/>
            </a:endParaRPr>
          </a:p>
          <a:p>
            <a:pPr marL="380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8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updating the IDS regularly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563" name="AG00231_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962520" cy="3353040"/>
          </a:xfrm>
          <a:prstGeom prst="rect">
            <a:avLst/>
          </a:prstGeom>
          <a:ln w="0">
            <a:noFill/>
          </a:ln>
        </p:spPr>
      </p:pic>
      <p:pic>
        <p:nvPicPr>
          <p:cNvPr id="564" name="AG00247_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The lifecycle of a vulnerability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447920" y="1371600"/>
            <a:ext cx="7009920" cy="4266720"/>
            <a:chOff x="1447920" y="1371600"/>
            <a:chExt cx="7009920" cy="4266720"/>
          </a:xfrm>
        </p:grpSpPr>
        <p:sp>
          <p:nvSpPr>
            <p:cNvPr id="567" name=""/>
            <p:cNvSpPr/>
            <p:nvPr/>
          </p:nvSpPr>
          <p:spPr>
            <a:xfrm>
              <a:off x="1447920" y="1584720"/>
              <a:ext cx="6740280" cy="405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7920" y="1371600"/>
              <a:ext cx="7009920" cy="426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447920" y="2819520"/>
            <a:ext cx="7162560" cy="2857320"/>
          </a:xfrm>
          <a:custGeom>
            <a:avLst/>
            <a:gdLst/>
            <a:ahLst/>
            <a:rect l="l" t="t" r="r" b="b"/>
            <a:pathLst>
              <a:path w="3840" h="1752">
                <a:moveTo>
                  <a:pt x="0" y="1752"/>
                </a:moveTo>
                <a:cubicBezTo>
                  <a:pt x="216" y="1164"/>
                  <a:pt x="432" y="576"/>
                  <a:pt x="672" y="312"/>
                </a:cubicBezTo>
                <a:cubicBezTo>
                  <a:pt x="912" y="48"/>
                  <a:pt x="1152" y="0"/>
                  <a:pt x="1440" y="168"/>
                </a:cubicBezTo>
                <a:cubicBezTo>
                  <a:pt x="1728" y="336"/>
                  <a:pt x="2000" y="1072"/>
                  <a:pt x="2400" y="1320"/>
                </a:cubicBezTo>
                <a:cubicBezTo>
                  <a:pt x="2800" y="1568"/>
                  <a:pt x="3584" y="1600"/>
                  <a:pt x="3840" y="1656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638680"/>
            <a:ext cx="7238880" cy="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447920" y="1600200"/>
            <a:ext cx="0" cy="40384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62040" y="4724280"/>
            <a:ext cx="16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reported</a:t>
            </a:r>
            <a:r>
              <a:rPr b="1" lang="en-US" sz="22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81080" y="388620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Advis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82320" y="3429000"/>
            <a:ext cx="18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Scripted exploit</a:t>
            </a:r>
            <a:r>
              <a:rPr b="1" lang="en-US" sz="22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40200" y="2895480"/>
            <a:ext cx="2577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general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Of 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30680" y="4648320"/>
            <a:ext cx="14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depre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718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5715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6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371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Inc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Develop an update the IDS regularly</a:t>
            </a:r>
            <a:r>
              <a:rPr b="1" i="1" lang="en-GB" sz="2400" spc="-1" strike="noStrike">
                <a:solidFill>
                  <a:srgbClr val="000000"/>
                </a:solidFill>
                <a:latin typeface="Univers 45 Light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Univers 45 Light"/>
              </a:rPr>
              <a:t>The justification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Most IDS issue updates either every 2 weeks or every month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Based on the last 6 or seven upgrades, each service pack contains 25-40 updat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erefo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Univers 45 Light"/>
              </a:rPr>
              <a:t>If you miss 2 months of updates, your ids will be 100 signatures shor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-3808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Univers 45 Light"/>
              </a:rPr>
              <a:t>During the first 6 months after discovery, the exploit will be used more than the successive  year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924680" y="5181480"/>
          <a:ext cx="9813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5181480"/>
                    <a:ext cx="9813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914400" y="304920"/>
            <a:ext cx="7623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Not updating the IDS regularly</a:t>
            </a: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Univers 45 Light"/>
              </a:rPr>
              <a:t>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5151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437920" y="1447560"/>
            <a:ext cx="36277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 fontScale="81000"/>
          </a:bodyPr>
          <a:p>
            <a:pPr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9600" spc="-1" strike="noStrike">
              <a:solidFill>
                <a:srgbClr val="000000"/>
              </a:solidFill>
              <a:latin typeface="Univers 45 Light"/>
            </a:endParaRPr>
          </a:p>
        </p:txBody>
      </p:sp>
      <p:pic>
        <p:nvPicPr>
          <p:cNvPr id="588" name="SY00414_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6576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Beating ids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371600" y="914400"/>
            <a:ext cx="7162560" cy="5181120"/>
            <a:chOff x="1371600" y="914400"/>
            <a:chExt cx="7162560" cy="5181120"/>
          </a:xfrm>
        </p:grpSpPr>
        <p:grpSp>
          <p:nvGrpSpPr>
            <p:cNvPr id="591" name=""/>
            <p:cNvGrpSpPr/>
            <p:nvPr/>
          </p:nvGrpSpPr>
          <p:grpSpPr>
            <a:xfrm>
              <a:off x="1377360" y="919080"/>
              <a:ext cx="7149600" cy="5171040"/>
              <a:chOff x="1377360" y="919080"/>
              <a:chExt cx="7149600" cy="51710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1377360" y="919080"/>
                <a:ext cx="2703240" cy="642960"/>
                <a:chOff x="1377360" y="919080"/>
                <a:chExt cx="2703240" cy="642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1465920" y="919080"/>
                  <a:ext cx="252576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C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377360" y="919080"/>
                  <a:ext cx="2703240" cy="64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4080960" y="919080"/>
                <a:ext cx="4446000" cy="642960"/>
                <a:chOff x="4080960" y="919080"/>
                <a:chExt cx="4446000" cy="642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4169160" y="919080"/>
                  <a:ext cx="426888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oidance techniqu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080960" y="919080"/>
                  <a:ext cx="4446000" cy="64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1377360" y="1562400"/>
                <a:ext cx="2703240" cy="1681920"/>
                <a:chOff x="1377360" y="1562400"/>
                <a:chExt cx="2703240" cy="16819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465920" y="1562400"/>
                  <a:ext cx="2525760" cy="168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rt Scanner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377360" y="1562400"/>
                  <a:ext cx="2703240" cy="168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4080960" y="1562400"/>
                <a:ext cx="4446000" cy="1681920"/>
                <a:chOff x="4080960" y="1562400"/>
                <a:chExt cx="4446000" cy="16819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169160" y="1562400"/>
                  <a:ext cx="4268880" cy="168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ny IDS recognise a port scanner after about 2 or 3 ports within a set period time (a matter of seconds).  If you use the IDS avoidance options within a fine tool like </a:t>
                  </a:r>
                  <a:r>
                    <a:rPr b="0" i="1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ngSweeper, </a:t>
                  </a: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our scans may not regis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f you really want to defeat most IDS position, spoof your source address and alter it for each por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080960" y="1562400"/>
                  <a:ext cx="4446000" cy="168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1377360" y="3245040"/>
                <a:ext cx="2703240" cy="1335960"/>
                <a:chOff x="1377360" y="3245040"/>
                <a:chExt cx="2703240" cy="1335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1465920" y="3245040"/>
                  <a:ext cx="2525760" cy="13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cod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77360" y="3245040"/>
                  <a:ext cx="2703240" cy="13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080960" y="3245040"/>
                <a:ext cx="4446000" cy="1335960"/>
                <a:chOff x="4080960" y="3245040"/>
                <a:chExt cx="4446000" cy="1335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169160" y="3245040"/>
                  <a:ext cx="4268880" cy="13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 a properly working Web 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T /cgi-bin/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 equivalent 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T /%63%67%69%2d%62%69%6e/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 simple text match could miss thi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080960" y="3245040"/>
                  <a:ext cx="4446000" cy="13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377360" y="4581360"/>
                <a:ext cx="2703240" cy="1508760"/>
                <a:chOff x="1377360" y="4581360"/>
                <a:chExt cx="2703240" cy="15087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465920" y="4581360"/>
                  <a:ext cx="2525760" cy="15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///////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377360" y="4581360"/>
                  <a:ext cx="2703240" cy="150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080960" y="4581360"/>
                <a:ext cx="4446000" cy="1508760"/>
                <a:chOff x="4080960" y="4581360"/>
                <a:chExt cx="4446000" cy="150876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169160" y="4581360"/>
                  <a:ext cx="4268880" cy="15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me ftp servers have peculiarities that may trick the unwary i.e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T /etc/ passwd   /tmp/attackinf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 equivalent 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T ///////////etc/passwd   /tmp/attackinf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080960" y="4581360"/>
                  <a:ext cx="4446000" cy="150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6" name=""/>
            <p:cNvSpPr/>
            <p:nvPr/>
          </p:nvSpPr>
          <p:spPr>
            <a:xfrm>
              <a:off x="1371600" y="914400"/>
              <a:ext cx="716256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Univers 45 Light"/>
              </a:rPr>
              <a:t>Beating ids 2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1812960" y="1392120"/>
            <a:ext cx="5518080" cy="4703400"/>
            <a:chOff x="1812960" y="1392120"/>
            <a:chExt cx="5518080" cy="4703400"/>
          </a:xfrm>
        </p:grpSpPr>
        <p:grpSp>
          <p:nvGrpSpPr>
            <p:cNvPr id="619" name=""/>
            <p:cNvGrpSpPr/>
            <p:nvPr/>
          </p:nvGrpSpPr>
          <p:grpSpPr>
            <a:xfrm>
              <a:off x="1817640" y="1397520"/>
              <a:ext cx="5508720" cy="4691880"/>
              <a:chOff x="1817640" y="1397520"/>
              <a:chExt cx="5508720" cy="469188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1817640" y="1397520"/>
                <a:ext cx="2082960" cy="721440"/>
                <a:chOff x="1817640" y="1397520"/>
                <a:chExt cx="2082960" cy="7214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886040" y="1397520"/>
                  <a:ext cx="194616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C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817640" y="1397520"/>
                  <a:ext cx="208296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3900600" y="1397520"/>
                <a:ext cx="3425760" cy="721440"/>
                <a:chOff x="3900600" y="1397520"/>
                <a:chExt cx="3425760" cy="7214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968640" y="1397520"/>
                  <a:ext cx="3289320" cy="72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oidance techniqu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900600" y="1397520"/>
                  <a:ext cx="3425760" cy="721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1817640" y="2119320"/>
                <a:ext cx="2082960" cy="2081880"/>
                <a:chOff x="1817640" y="2119320"/>
                <a:chExt cx="2082960" cy="20818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1886040" y="2119320"/>
                  <a:ext cx="1946160" cy="20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./././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817640" y="2119320"/>
                  <a:ext cx="2082960" cy="208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3900600" y="2119320"/>
                <a:ext cx="3425760" cy="2081880"/>
                <a:chOff x="3900600" y="2119320"/>
                <a:chExt cx="3425760" cy="20818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968640" y="2119320"/>
                  <a:ext cx="3289320" cy="208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eryone knows that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/ means in this directory, so tha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././cgibin/testcg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 equivalent 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cgibin/testcg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ut it can fool many an IDS.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00600" y="2119320"/>
                  <a:ext cx="3425760" cy="208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1817640" y="4201920"/>
                <a:ext cx="2082960" cy="1887480"/>
                <a:chOff x="1817640" y="4201920"/>
                <a:chExt cx="2082960" cy="18874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886040" y="4201920"/>
                  <a:ext cx="1946160" cy="18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\cgibin\testcg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817640" y="4201920"/>
                  <a:ext cx="2082960" cy="18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3900600" y="4201920"/>
                <a:ext cx="3425760" cy="1887480"/>
                <a:chOff x="3900600" y="4201920"/>
                <a:chExt cx="3425760" cy="18874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968640" y="4201920"/>
                  <a:ext cx="3289320" cy="18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 some web server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\cgibin\testcg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s equivalent 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cgibin/testcg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is doesn’t work on IIS servers but it works on many others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81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00600" y="4201920"/>
                  <a:ext cx="3425760" cy="188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1812960" y="1392120"/>
              <a:ext cx="5518080" cy="470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98560" y="1498320"/>
            <a:ext cx="74073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Univers 45 Light"/>
              </a:rPr>
              <a:t>For further information contact: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Univers 45 Light"/>
              </a:rPr>
              <a:t>Mark Osborne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Univers 45 Light"/>
              </a:rPr>
              <a:t>Director of Security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Univers 45 Light"/>
              </a:rPr>
              <a:t>020 7 311 5468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GB" sz="2400" spc="-1" strike="noStrike" u="sng">
                <a:solidFill>
                  <a:srgbClr val="4acaff"/>
                </a:solidFill>
                <a:uFillTx/>
                <a:latin typeface="Times New Roman"/>
                <a:hlinkClick r:id="rId1"/>
              </a:rPr>
              <a:t>mark.</a:t>
            </a:r>
            <a:r>
              <a:rPr b="1" lang="en-GB" sz="2400" spc="-1" strike="noStrike" u="sng">
                <a:solidFill>
                  <a:srgbClr val="4acaff"/>
                </a:solidFill>
                <a:uFillTx/>
                <a:latin typeface="Times New Roman"/>
                <a:hlinkClick r:id="rId2"/>
              </a:rPr>
              <a:t>osborne</a:t>
            </a:r>
            <a:r>
              <a:rPr b="1" lang="en-GB" sz="2400" spc="-1" strike="noStrike" u="sng">
                <a:solidFill>
                  <a:srgbClr val="4acaff"/>
                </a:solidFill>
                <a:uFillTx/>
                <a:latin typeface="Times New Roman"/>
                <a:hlinkClick r:id="rId3"/>
              </a:rPr>
              <a:t>@kpmg.co.</a:t>
            </a:r>
            <a:r>
              <a:rPr b="1" lang="en-GB" sz="2400" spc="-1" strike="noStrike" u="sng">
                <a:solidFill>
                  <a:srgbClr val="4acaff"/>
                </a:solidFill>
                <a:uFillTx/>
                <a:latin typeface="Times New Roman"/>
                <a:hlinkClick r:id="rId4"/>
              </a:rPr>
              <a:t>uk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Univers 45 Light"/>
              </a:rPr>
              <a:t>Presentation: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Univers 45 Light"/>
              </a:rPr>
              <a:t>http://www.loud-fat-bloke.co.uk</a:t>
            </a:r>
            <a:endParaRPr b="1" lang="en-US" sz="24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Security vulnerabilities on the up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676520"/>
          <a:ext cx="740736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40736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63244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62485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Univers 45 Light"/>
              </a:rPr>
              <a:t>*  Figure for 3 of 4 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334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447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Vulnerabilities/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334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Security vulnerabilities on the up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676520"/>
          <a:ext cx="740736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40736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400800" y="63244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334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ncidents/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5334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6095880"/>
            <a:ext cx="58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Univers 45 Light"/>
              </a:rPr>
              <a:t>* 2002 Figure for 3 of 4 quarters  Source Cert/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Security vulnerabilities on the up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676520"/>
          <a:ext cx="740736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40736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400800" y="63244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62485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Univers 45 Light"/>
              </a:rPr>
              <a:t>*  Figure for 3 of 4 quarters  Source Cert/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334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Vulnerabilities/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334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Univers 45 Light"/>
              </a:rPr>
              <a:t>Security vulnerabilities on the up</a:t>
            </a:r>
            <a:endParaRPr b="1" lang="en-US" sz="3200" spc="-1" strike="noStrike">
              <a:solidFill>
                <a:srgbClr val="000000"/>
              </a:solidFill>
              <a:latin typeface="Univers 45 Ligh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765840" y="5510160"/>
          <a:ext cx="23781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5840" y="5510160"/>
                    <a:ext cx="23781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1219320"/>
            <a:ext cx="72392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Univers 45 Light"/>
              </a:rPr>
              <a:t>The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206 Port scans/month + 17 NBTscans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 45 Light"/>
              </a:rPr>
              <a:t>www.honeynet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Firewall produces 100-500 mb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Univers 45 Light"/>
              </a:rPr>
              <a:t>KP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Incident Cost £30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Most orgs have at least one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buClr>
                <a:srgbClr val="0000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Univers 45 Light"/>
              </a:rPr>
              <a:t>60 % of larger firms use 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Univers 45 Light"/>
              </a:rPr>
              <a:t>(DTI/PWC 2002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ocus of attack changed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105000"/>
              </a:lnSpc>
              <a:spcBef>
                <a:spcPts val="97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rewalls alone not up to the job alone</a:t>
            </a:r>
            <a:endParaRPr b="1" lang="en-US" sz="2600" spc="-1" strike="noStrike">
              <a:solidFill>
                <a:srgbClr val="000066"/>
              </a:solidFill>
              <a:latin typeface="Univers 45 Light"/>
            </a:endParaRPr>
          </a:p>
          <a:p>
            <a:pPr lvl="1" marL="457200" indent="0" algn="ctr">
              <a:lnSpc>
                <a:spcPct val="105000"/>
              </a:lnSpc>
              <a:spcBef>
                <a:spcPts val="488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600" spc="-1" strike="noStrike">
              <a:solidFill>
                <a:srgbClr val="000066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© 2001 KPMG UK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09:02:19Z</dcterms:created>
  <dc:creator>KPMG</dc:creator>
  <dc:description>Grey background</dc:description>
  <dc:language>en-US</dc:language>
  <cp:lastModifiedBy>Mosborne</cp:lastModifiedBy>
  <dcterms:modified xsi:type="dcterms:W3CDTF">2002-10-20T22:25:09Z</dcterms:modified>
  <cp:revision>391</cp:revision>
  <dc:subject/>
  <dc:title>KIS template</dc:title>
</cp:coreProperties>
</file>